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FFA7-C21F-4172-8C22-848F38A6C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D258-0C0B-43EE-A0D7-10B254126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CB4B-FC08-45A8-A7B6-577DD31B0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4B5F-A22C-49FA-9989-5B05AA61DC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591B-8419-41A6-BB1C-6BC1CA81C3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E9D6-4B2E-41B2-82A2-7825C0DAB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FD81-5D7F-45EB-A29B-2664E684E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83CE-8C5F-4216-A7EE-D1A5E5860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3BA2-A539-408C-953E-C7430A9B9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DA39-311F-4C9B-AF3D-9F242AB99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D318-D88B-430A-8110-72EFCC5EB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0B5C-D5D7-4786-9C31-D6255FBE5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iv-nantes.fr/index.j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IEEE 1471-2000 : A Metamodel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50000" y="6624720"/>
            <a:ext cx="14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© 2006 ATLAS N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4087D978-64D6-4EB0-A05D-9CF6674EEF05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25884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Université de Nant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191280"/>
            <a:ext cx="122868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bin.jossic@gmail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tem.ntnu.no/fag/ttm4160/Artikler/ieee1471.pdf" TargetMode="External"/><Relationship Id="rId2" Type="http://schemas.openxmlformats.org/officeDocument/2006/relationships/hyperlink" Target="http://www.eclipse.org/gmt/atl/doc/KernelMetaMetaModel%5Bv00.06%5D.pdf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1800" y="1143000"/>
            <a:ext cx="8477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IEEE 1471-2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A Metamodel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lbin Jossic (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albin.jossic@gmail.com</a:t>
            </a: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TLAS group (INRIA &amp; LINA), University of Nante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ttp://www.sciences.univ-nantes.fr/lina/atl/</a:t>
            </a:r>
            <a:br>
              <a:rPr sz="4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A012-8E81-4E04-B813-8F63E402C7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Generalities about IEEE 1471-2000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9960" y="1238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t is a standard define bye IEEE commitee, 21 september 2000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-4762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t precises the recommended practice for the design and the analysis of Architecture of Software Intensive System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-4762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s metamodel is an interpretation in km3 of class diagrams give in official paper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3A8B-1A7D-4C27-B61D-FE2E705DF4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cepts in IEEE 1471-2000 (1/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960" y="1238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System is a set of components organized to do some specific functions. A system has an architecture in real worl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-4762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Architectural Description is a set of documents that describing an architecture in particular mode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-4762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Stakeholder defines a user class like owners, developers or maintainers of a system. It can be a single person, a team or an organization. 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1A9C-9089-48D2-9E4E-6FC4B1E55FB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cepts in IEEE 1471-2000 (2/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960" y="1238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1880" indent="-461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Concern represents the interest of a stakeholder about a part of a system lifecycle like the development and the operation or about a property like distribution or security of a system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-461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View is a representation of a whole system from the perspective of a related set of concerns. A view conforms to one and only one viewpoi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-461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Viewpoint is a specification to define a view about an architectur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866E-3F4D-4993-8C46-1019D08659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 Simplified Metamodel: Conceptual 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96880" y="831960"/>
          <a:ext cx="6567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831960"/>
                    <a:ext cx="6567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D88D-FF68-436E-9B1F-0F7B3D710E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 Simplified Metamodel: Based Viewpoint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368360"/>
          <a:ext cx="914400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68360"/>
                    <a:ext cx="91440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564C-BA4F-4F92-AF73-0173382E9B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nd of the present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5751360" y="6056280"/>
            <a:ext cx="3392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AMMA@lina.univ-nantes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ATLAS group, INRIA &amp; LINA, 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581280"/>
            <a:ext cx="17715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19320"/>
            <a:ext cx="820116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Comic Sans MS"/>
              </a:rPr>
              <a:t>Sourc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IEEE Std 1471-2000, Recommended Practice for Architectural Description of Software-Intensive Systems, IEEE Computer Society, 21 September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item.ntnu.no/fag/ttm4160/Artikler/ieee1471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KM3 Manual: 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www.eclipse.org/gmt/atl/doc/KernelMetaMetaModel%5Bv00.06%5D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CE14-AF24-477A-A71D-2819614A1DA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Hugo Brunelière</dc:creator>
  <dc:description/>
  <dc:language>en-US</dc:language>
  <cp:lastModifiedBy>Albin</cp:lastModifiedBy>
  <dcterms:modified xsi:type="dcterms:W3CDTF">2006-06-15T11:14:28Z</dcterms:modified>
  <cp:revision>656</cp:revision>
  <dc:subject>Microsoft Office Metamodels</dc:subject>
  <dc:title>Spreadsheet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8291993</vt:r8>
  </property>
  <property fmtid="{D5CDD505-2E9C-101B-9397-08002B2CF9AE}" pid="3" name="_AuthorEmail">
    <vt:lpwstr>jean.bezivin@lina.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Cartouche.ppt.ppt</vt:lpwstr>
  </property>
  <property fmtid="{D5CDD505-2E9C-101B-9397-08002B2CF9AE}" pid="6" name="_ReviewingToolsShownOnce">
    <vt:lpwstr/>
  </property>
</Properties>
</file>