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D4F4-4203-4249-B547-3A18CC1B8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0279-8B17-44EC-A01E-318AB64A7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DF84-B91C-4143-B631-B56099381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2483-88ED-4CC5-B5CF-6F1FD4281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BADB-D802-4454-811E-A2A74C127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05C1-E3EF-4791-9988-4D622F4DA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F073-FBD1-4B64-8F3A-2490E80AC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6FAA-401C-4878-9118-5E0559D69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68BA-B915-4C6D-9C78-F3F885047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A45E-3F1D-49F8-B17D-C1424928C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4397-E896-43C1-B3BC-3F058F074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D4F5-9BD4-4515-B5CB-D4830C787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MoDAF AV: A Metamodel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D75CDF60-9070-44CE-98B7-6E4700A796A5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1800" y="1143000"/>
            <a:ext cx="8477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MoDAF A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A Metamode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lbin Jossic (albin.jossic@gmail.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0214-D4F0-4EB8-A2E3-8F8D926D6C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lities about MoDAF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inistry of Defense Architecture Framework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used to describe an enterprise architectur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based on the DoDAF (US Department of Defense Architecture Framework). This framework has its origins in the C4ISR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oDAF use IEEE 1471-2000 terminology about Architectural Descrip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s metamodel is an interpretation in km3 of class diagrams give in official paper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5867-059F-4138-BD96-A028725985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MoDAF (1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Enterprise is the same concept that System in the IEEE 1471 terminology. A Enterprise inhabits in a contextual Environment and fulfills Missions. A Enterprise has an architecture in real worl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Architectural Description is a set of documents that describing an architecture in particular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akeholder defines a user class like owners, developers or maintainers of a system. It can be a single person, a team or an organization. 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D136-629E-49FF-85E5-B70F5A8C05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MoDAF (2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 Concern represents the interest of a stakeholder about a part of a system lifecycle like the development and the operation or about a property like distribution or security of a system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rchitectural Product (AP) is the same concept that View in IEEE 1471. AP is a representation of a whole system from the perspective of a related set of concerns. A AP conforms to one and only one View in MoDAF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View is the same concept that Viewpoint in IEEE 1471. View is a specification to define a AP about an architectur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CFA8-F616-45CF-B38B-A908BBA3BC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MoDAF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8480" y="1311120"/>
          <a:ext cx="5197320" cy="47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1311120"/>
                    <a:ext cx="5197320" cy="47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C3B3-EE72-4E48-8D18-111138D10F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MoDAF Architecture 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7600" y="1025640"/>
          <a:ext cx="8216640" cy="54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025640"/>
                    <a:ext cx="821664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E6F8-E12B-49B5-9D6A-4F2645BDFE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nd of the present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751360" y="6056280"/>
            <a:ext cx="339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MMA@lina.univ-nante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TLAS group, INRIA &amp; LINA, 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58128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19320"/>
            <a:ext cx="820116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Sour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MoDAF official sit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http://modaf.modelfutures.com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IEEE Std 1471-2000, Recommended Practice for Architectural Description of Software-Intensive Systems, IEEE Computer Society, 21 Sept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http://www.item.ntnu.no/fag/ttm4160/Artikler/ieee1471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KM3 Manual: http://www.eclipse.org/gmt/atl/doc/KernelMetaMetaModel%5Bv00.06%5D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CA4C-5F58-4AC5-992D-AB9A0B79718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Hugo Brunelière</dc:creator>
  <dc:description/>
  <dc:language>en-US</dc:language>
  <cp:lastModifiedBy>Albin</cp:lastModifiedBy>
  <dcterms:modified xsi:type="dcterms:W3CDTF">2006-06-14T13:06:36Z</dcterms:modified>
  <cp:revision>667</cp:revision>
  <dc:subject>Microsoft Office Metamodels</dc:subject>
  <dc:title>Spreadsheet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