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F432-EE09-4AFC-AEBD-56D70E71E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0213-D78E-4432-857B-D30C7EAA9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7E79-2310-457F-867B-EDC306B61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D89F-B237-47FA-9308-2B21DFAE0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150F-5DBE-41E1-B6FE-5F84685EB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4A19-582C-40B5-B283-DAB54076C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3204-7FA7-4412-A48B-B538EC30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AFE5-BD3B-4D9F-8DE4-A52349531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" y="1522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9D18-1621-4057-96E6-EF194FB25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D91A-E81A-45EF-B494-B798B78D9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A310-B2FC-4D28-BB92-08EF3E922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1583-7375-42D6-A14C-38A37F3A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univ-nantes.fr/index.j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27432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1" marL="743040" indent="-28584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3" marL="16002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4" marL="2057400" indent="-22860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249120"/>
            <a:ext cx="89917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0"/>
            <a:ext cx="9144000" cy="276480"/>
          </a:xfrm>
          <a:prstGeom prst="rect">
            <a:avLst/>
          </a:prstGeom>
          <a:solidFill>
            <a:srgbClr val="c7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IEEE 1471-2000 : A Metamodel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0000" y="662472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66"/>
                </a:solidFill>
                <a:latin typeface="Arial"/>
              </a:rPr>
              <a:t>© 2006 ATLAS N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192360" y="660060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Verdana"/>
              </a:rPr>
              <a:t>- </a:t>
            </a:r>
            <a:fld id="{FE055DC8-1702-4A62-8601-9AD54F4B4B9C}" type="slidenum">
              <a:rPr b="1" lang="en-US" sz="9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25884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Université de Nant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191280"/>
            <a:ext cx="12286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bin.jossic@gmail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tem.ntnu.no/fag/ttm4160/Artikler/ieee1471.pdf" TargetMode="External"/><Relationship Id="rId2" Type="http://schemas.openxmlformats.org/officeDocument/2006/relationships/hyperlink" Target="http://www.eclipse.org/gmt/atl/doc/KernelMetaMetaModel%5Bv00.06%5D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1800" y="1143000"/>
            <a:ext cx="8477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Comic Sans MS"/>
              </a:rPr>
              <a:t>IEEE 1471-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2"/>
                </a:solidFill>
                <a:latin typeface="Comic Sans MS"/>
              </a:rPr>
              <a:t>A Metamode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lbin Jossic 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albin.jossic@gmail.com</a:t>
            </a: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Comic Sans MS"/>
              </a:rPr>
              <a:t>ATLAS group (INRIA &amp; LINA), University of Nantes, 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ttp://www.sciences.univ-nantes.fr/lina/atl/</a:t>
            </a:r>
            <a:br>
              <a:rPr sz="4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1D45-CEA3-41A6-B05E-5A5F3453A9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Generalities about IEEE 1471-2000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is a standard define bye IEEE commitee, 21 september 2000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It precises the recommended practice for the design and the analysis of Architecture of Software Intensive System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This metamodel is an interpretation in km3 of class diagrams give in official paper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230D-620D-4132-B0AF-7C2C4DBD8D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IEEE 1471-2000 (1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ystem is a set of components organized to do some specific functions. A system has an architecture in real world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n Architectural Description is a set of documents that describing an architecture in particular models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-4762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Stakeholder defines a user class like owners, developers or maintainers of a system. It can be a single person, a team or an organization.  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762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C0B06-8E92-437B-989C-65EDA84419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oncepts in IEEE 1471-2000 (2/2)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12384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A Concern represents the interest of a stakeholder about a part of a system lifecycle like the development and the operation or about a property like distribution or security of a system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iew is a representation of a whole system from the perspective of a related set of concerns. A view conforms to one and only one viewpoint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  <a:p>
            <a:pPr marL="461880" indent="-461880">
              <a:spcBef>
                <a:spcPts val="624"/>
              </a:spcBef>
              <a:buClr>
                <a:srgbClr val="0000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Comic Sans MS"/>
              </a:rPr>
              <a:t>Viewpoint is a specification to define a view about an architecture.</a:t>
            </a:r>
            <a:endParaRPr b="0" lang="en-US" sz="25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D6DC-FB85-4D70-8D51-DA0A495719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Conceptual 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96880" y="831960"/>
          <a:ext cx="6567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831960"/>
                    <a:ext cx="6567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5E74-4775-4329-AD5F-82CA430E91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Simplified Metamodel: Based Viewpoint Metamodel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68360"/>
          <a:ext cx="91440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8360"/>
                    <a:ext cx="9144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1383-1C19-453F-A8FC-B78096FCB2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End of the presentation</a:t>
            </a:r>
            <a:endParaRPr b="1" lang="en-US" sz="2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751360" y="6056280"/>
            <a:ext cx="3392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MMA@lina.univ-nante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ATLAS group, INRIA &amp; LINA, N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358128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19320"/>
            <a:ext cx="820116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Comic Sans MS"/>
              </a:rPr>
              <a:t>Sour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IEEE Std 1471-2000, Recommended Practice for Architectural Description of Software-Intensive Systems, IEEE Computer Society, 21 September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www.item.ntnu.no/fag/ttm4160/Artikler/ieee1471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Comic Sans MS"/>
              </a:rPr>
              <a:t>KM3 Manual: 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www.eclipse.org/gmt/atl/doc/KernelMetaMetaModel%5Bv00.06%5D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0F2C-F818-4D7A-9D85-CC331501D1C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Hugo Brunelière</dc:creator>
  <dc:description/>
  <dc:language>en-US</dc:language>
  <cp:lastModifiedBy>Albin</cp:lastModifiedBy>
  <dcterms:modified xsi:type="dcterms:W3CDTF">2006-06-15T11:14:28Z</dcterms:modified>
  <cp:revision>656</cp:revision>
  <dc:subject>Microsoft Office Metamodels</dc:subject>
  <dc:title>Spreadsheet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58291993</vt:r8>
  </property>
  <property fmtid="{D5CDD505-2E9C-101B-9397-08002B2CF9AE}" pid="3" name="_AuthorEmail">
    <vt:lpwstr>jean.bezivin@lina.univ-nantes.fr</vt:lpwstr>
  </property>
  <property fmtid="{D5CDD505-2E9C-101B-9397-08002B2CF9AE}" pid="4" name="_AuthorEmailDisplayName">
    <vt:lpwstr>Jean Bezivin</vt:lpwstr>
  </property>
  <property fmtid="{D5CDD505-2E9C-101B-9397-08002B2CF9AE}" pid="5" name="_EmailSubject">
    <vt:lpwstr>Cartouche.ppt.ppt</vt:lpwstr>
  </property>
  <property fmtid="{D5CDD505-2E9C-101B-9397-08002B2CF9AE}" pid="6" name="_ReviewingToolsShownOnce">
    <vt:lpwstr/>
  </property>
</Properties>
</file>