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3F49-99EC-4D7D-A26F-2EB613921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C831-15A0-4B38-AD9E-A2CDAC1F8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D01D-28C8-47F6-A4AF-8CAE4B513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9B15-6B78-4941-ABB4-BEE0DF4FC8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C6F3-C00E-4F26-BDC0-043B859F8B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548F-F519-4E06-92D9-7699F8CBE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1554-9A65-4827-B70B-5D8267DEA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D23E-50AE-4098-8C61-4FDEBF766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E1DC-F588-4256-B5BB-30828130C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E272-D6E1-4F62-8E00-AF19815F1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A32A-DFA4-44E1-B61A-DA4C60360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751B-2AA1-425F-8CA9-702CC7EE4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iv-nantes.fr/index.j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MoDAF AV: A Metamodel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50000" y="6624720"/>
            <a:ext cx="14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© 2006 ATLAS N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2ACC7EE8-FE61-48FB-A45D-045A090A46D4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25884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Université de Nant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191280"/>
            <a:ext cx="122868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1800" y="1143000"/>
            <a:ext cx="8477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MoDAF A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A Metamodel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lbin Jossic (albin.jossic@gmail.c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TLAS group (INRIA &amp; LINA), University of Nante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ttp://www.sciences.univ-nantes.fr/lina/atl/</a:t>
            </a:r>
            <a:br>
              <a:rPr sz="4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3F71-75FF-43B9-9AA1-76AAA045189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Generalities about MoDAF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9960" y="1238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2800" indent="-442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Ministry of Defense Architecture Framework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-442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t used to describe an enterprise architectur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-442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It based on the DoDAF (US Department of Defense Architecture Framework). This framework has its origins in the C4ISR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-442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MoDAF use IEEE 1471-2000 terminology about Architectural Description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42800" indent="-44280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This metamodel is an interpretation in km3 of class diagrams give in official papers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A907-F3A0-4244-9573-E592262B73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cepts in MoDAF (1/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960" y="1238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1880" indent="-461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Enterprise is the same concept that System in the IEEE 1471 terminology. A Enterprise inhabits in a contextual Environment and fulfills Missions. A Enterprise has an architecture in real world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-461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Architectural Description is a set of documents that describing an architecture in particular mode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-461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Stakeholder defines a user class like owners, developers or maintainers of a system. It can be a single person, a team or an organization. 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DA67-1E6E-401B-AEEC-34DC1C0250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cepts in MoDAF (2/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1238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 Concern represents the interest of a stakeholder about a part of a system lifecycle like the development and the operation or about a property like distribution or security of a system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-4762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Architectural Product (AP) is the same concept that View in IEEE 1471. AP is a representation of a whole system from the perspective of a related set of concerns. A AP conforms to one and only one View in MoDAF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-476280">
              <a:spcBef>
                <a:spcPts val="5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mic Sans MS"/>
              </a:rPr>
              <a:t>View is the same concept that Viewpoint in IEEE 1471. View is a specification to define a AP about an architecture.</a:t>
            </a:r>
            <a:endParaRPr b="0" lang="en-US" sz="21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0614-55DD-4E4A-B208-9295445424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Simplified Metamodel: MoDAF Overview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968480" y="1311120"/>
          <a:ext cx="5197320" cy="478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8480" y="1311120"/>
                    <a:ext cx="5197320" cy="47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8F53-9D2C-413F-A30E-473F418D0D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Simplified Metamodel: MoDAF Architecture View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7600" y="1025640"/>
          <a:ext cx="8216640" cy="54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025640"/>
                    <a:ext cx="8216640" cy="54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68EB-A5F1-43E5-8DF9-F76EE7BCE4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nd of the present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5751360" y="6056280"/>
            <a:ext cx="3392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AMMA@lina.univ-nantes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ATLAS group, INRIA &amp; LINA, 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581280"/>
            <a:ext cx="17715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19320"/>
            <a:ext cx="820116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Comic Sans MS"/>
              </a:rPr>
              <a:t>Sourc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Comic Sans MS"/>
              </a:rPr>
              <a:t>MoDAF official sit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http://modaf.modelfutures.com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IEEE Std 1471-2000, Recommended Practice for Architectural Description of Software-Intensive Systems, IEEE Computer Society, 21 September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http://www.item.ntnu.no/fag/ttm4160/Artikler/ieee1471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KM3 Manual: http://www.eclipse.org/gmt/atl/doc/KernelMetaMetaModel%5Bv00.06%5D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2142-E370-4E4F-B5C9-952BD330066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Hugo Brunelière</dc:creator>
  <dc:description/>
  <dc:language>en-US</dc:language>
  <cp:lastModifiedBy>Albin</cp:lastModifiedBy>
  <dcterms:modified xsi:type="dcterms:W3CDTF">2006-06-14T13:06:36Z</dcterms:modified>
  <cp:revision>667</cp:revision>
  <dc:subject>Microsoft Office Metamodels</dc:subject>
  <dc:title>Spreadsheet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8291993</vt:r8>
  </property>
  <property fmtid="{D5CDD505-2E9C-101B-9397-08002B2CF9AE}" pid="3" name="_AuthorEmail">
    <vt:lpwstr>jean.bezivin@lina.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Cartouche.ppt.ppt</vt:lpwstr>
  </property>
  <property fmtid="{D5CDD505-2E9C-101B-9397-08002B2CF9AE}" pid="6" name="_ReviewingToolsShownOnce">
    <vt:lpwstr/>
  </property>
</Properties>
</file>