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48360" cy="9234360"/>
          </a:xfrm>
          <a:custGeom>
            <a:avLst/>
            <a:gdLst>
              <a:gd name="textAreaLeft" fmla="*/ 360 w 6948360"/>
              <a:gd name="textAreaRight" fmla="*/ 6948000 w 6948360"/>
              <a:gd name="textAreaTop" fmla="*/ 360 h 9234360"/>
              <a:gd name="textAreaBottom" fmla="*/ 9234000 h 9234360"/>
            </a:gdLst>
            <a:ahLst/>
            <a:rect l="textAreaLeft" t="textAreaTop" r="textAreaRight" b="textAreaBottom"/>
            <a:pathLst>
              <a:path w="21600" h="28706">
                <a:moveTo>
                  <a:pt x="4" y="0"/>
                </a:moveTo>
                <a:arcTo wR="4" hR="4" stAng="16200000" swAng="-5400000"/>
                <a:lnTo>
                  <a:pt x="0" y="28702"/>
                </a:lnTo>
                <a:arcTo wR="4" hR="4" stAng="10800000" swAng="-5400000"/>
                <a:lnTo>
                  <a:pt x="21596" y="2870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081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4840" cy="34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48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0" y="8769240"/>
            <a:ext cx="30081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935520" y="8769240"/>
            <a:ext cx="30081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562E9-75AE-4918-B027-09FAFD821A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168560" y="6937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should we mention ITextStore and ILineTrack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- additional: IDocumentPartitioningListe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Runtime is really a OSGI implement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165320" y="69228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562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D076-6F35-4090-BDC3-C27481D17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040" y="381456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B8BA-570B-40D4-8DD1-E589B36DE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00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5145-0C82-427D-90CD-59811709C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74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28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0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74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928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F62B-B9DB-413A-8D73-F51BDAC51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2040" y="1776240"/>
            <a:ext cx="7735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735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3720" y="871200"/>
            <a:ext cx="8243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040" y="1776240"/>
            <a:ext cx="7735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D4E5-B349-462F-9894-CDF05F71F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2600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2040" y="381456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2600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74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92840" y="177624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20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74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92840" y="3814560"/>
            <a:ext cx="24904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735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31F7-5988-460E-90ED-316C43CB3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DE64-1443-4F8D-A2B7-67E205034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A19C-8E69-4BD1-AC5C-9B0D959E3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3720" y="871200"/>
            <a:ext cx="8243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0215-15D1-4A0C-A8BC-844A1FB60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23E5-4EF0-4716-8FD5-3BDAE691E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000" y="381456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242A-7E70-4EBA-93EA-AF0F37642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000" y="1776240"/>
            <a:ext cx="377496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040" y="3814560"/>
            <a:ext cx="7735680" cy="18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4FFA-B357-4CF6-8F6E-ED27B1C8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3720" y="871200"/>
            <a:ext cx="824364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2040" y="1776240"/>
            <a:ext cx="7735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3720" y="6462360"/>
            <a:ext cx="1004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EC769-F707-4B3E-9041-7B6FC987667B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75320"/>
            <a:ext cx="7696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xt Editor Recipes  |  © 2006 IBM | Made available under the EPL v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348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83560" y="241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840" y="6456240"/>
            <a:ext cx="9099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© 2006 IBM | Made available under the EPL v1.0 |  March 2006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944720" y="3313080"/>
            <a:ext cx="6408720" cy="14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63680">
              <a:lnSpc>
                <a:spcPct val="93000"/>
              </a:lnSpc>
              <a:tabLst>
                <a:tab algn="l" pos="0"/>
                <a:tab algn="l" pos="463680"/>
                <a:tab algn="l" pos="1378080"/>
                <a:tab algn="l" pos="2292480"/>
                <a:tab algn="l" pos="3206880"/>
                <a:tab algn="l" pos="4121280"/>
                <a:tab algn="l" pos="5035680"/>
                <a:tab algn="l" pos="5950080"/>
                <a:tab algn="l" pos="6864480"/>
                <a:tab algn="l" pos="7778880"/>
                <a:tab algn="l" pos="8693280"/>
                <a:tab algn="l" pos="9607680"/>
                <a:tab algn="l" pos="10522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ason’s recipes for your text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93000"/>
              </a:lnSpc>
              <a:tabLst>
                <a:tab algn="l" pos="0"/>
                <a:tab algn="l" pos="463680"/>
                <a:tab algn="l" pos="1378080"/>
                <a:tab algn="l" pos="2292480"/>
                <a:tab algn="l" pos="3206880"/>
                <a:tab algn="l" pos="4121280"/>
                <a:tab algn="l" pos="5035680"/>
                <a:tab algn="l" pos="5950080"/>
                <a:tab algn="l" pos="6864480"/>
                <a:tab algn="l" pos="7778880"/>
                <a:tab algn="l" pos="8693280"/>
                <a:tab algn="l" pos="9607680"/>
                <a:tab algn="l" pos="10522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93000"/>
              </a:lnSpc>
              <a:tabLst>
                <a:tab algn="l" pos="0"/>
                <a:tab algn="l" pos="463680"/>
                <a:tab algn="l" pos="1378080"/>
                <a:tab algn="l" pos="2292480"/>
                <a:tab algn="l" pos="3206880"/>
                <a:tab algn="l" pos="4121280"/>
                <a:tab algn="l" pos="5035680"/>
                <a:tab algn="l" pos="5950080"/>
                <a:tab algn="l" pos="6864480"/>
                <a:tab algn="l" pos="7778880"/>
                <a:tab algn="l" pos="8693280"/>
                <a:tab algn="l" pos="9607680"/>
                <a:tab algn="l" pos="10522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m E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93000"/>
              </a:lnSpc>
              <a:tabLst>
                <a:tab algn="l" pos="0"/>
                <a:tab algn="l" pos="463680"/>
                <a:tab algn="l" pos="1378080"/>
                <a:tab algn="l" pos="2292480"/>
                <a:tab algn="l" pos="3206880"/>
                <a:tab algn="l" pos="4121280"/>
                <a:tab algn="l" pos="5035680"/>
                <a:tab algn="l" pos="5950080"/>
                <a:tab algn="l" pos="6864480"/>
                <a:tab algn="l" pos="7778880"/>
                <a:tab algn="l" pos="8693280"/>
                <a:tab algn="l" pos="9607680"/>
                <a:tab algn="l" pos="10522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tin Aeschli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lnSpc>
                <a:spcPct val="93000"/>
              </a:lnSpc>
              <a:tabLst>
                <a:tab algn="l" pos="0"/>
                <a:tab algn="l" pos="463680"/>
                <a:tab algn="l" pos="1378080"/>
                <a:tab algn="l" pos="2292480"/>
                <a:tab algn="l" pos="3206880"/>
                <a:tab algn="l" pos="4121280"/>
                <a:tab algn="l" pos="5035680"/>
                <a:tab algn="l" pos="5950080"/>
                <a:tab algn="l" pos="6864480"/>
                <a:tab algn="l" pos="7778880"/>
                <a:tab algn="l" pos="8693280"/>
                <a:tab algn="l" pos="9607680"/>
                <a:tab algn="l" pos="10522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BM Eclips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90240" y="175104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2672"/>
                </a:solidFill>
                <a:latin typeface="Arial"/>
              </a:rPr>
              <a:t>Text Editor Recip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What about the Java Editor?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73612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 the Java editing code is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4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vaSourceViewerConfigur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AB2C-8514-47BD-AA2C-3E50D0409D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Source Viewer Configur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3680" y="1668600"/>
            <a:ext cx="799596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84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ndles the configuration space of a source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8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ation reconciler (syntax col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8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8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8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8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y features can be provided separately for each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arti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589C4-AB42-4623-B906-1AA159DABF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Syntax Highlighting: Damage &amp; Repai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0360" y="1775880"/>
            <a:ext cx="7682040" cy="16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PresentationReconc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IPresentationDamag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efine dirty region given a tex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IPresentationRepair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recreate presentation for dirty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DefaultDamagerRepair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es both, based on a token sc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0720" y="4608360"/>
            <a:ext cx="5040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1564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ITokenScan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parse text into a token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  <a:ea typeface="Arial"/>
              </a:rPr>
              <a:t>RuleBasedScan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uses simpl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29520" y="117360"/>
            <a:ext cx="2724480" cy="148644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Courier 10 Pitch"/>
              </a:rPr>
              <a:t># Fond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</a:rPr>
              <a:t>Ingredi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c80000"/>
                </a:solidFill>
                <a:latin typeface="Courier 10 Pitch"/>
                <a:ea typeface="Monospace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Cheese</a:t>
            </a:r>
            <a:r>
              <a:rPr b="0" lang="en-GB" sz="1200" spc="-1" strike="noStrike">
                <a:solidFill>
                  <a:srgbClr val="0000c8"/>
                </a:solidFill>
                <a:latin typeface="Courier 10 Pitch"/>
                <a:ea typeface="Monospace"/>
              </a:rPr>
              <a:t>: 1lb </a:t>
            </a:r>
            <a:r>
              <a:rPr b="0" i="1" lang="en-GB" sz="1200" spc="-1" strike="noStrike">
                <a:solidFill>
                  <a:srgbClr val="009600"/>
                </a:solidFill>
                <a:latin typeface="Courier 10 Pitch"/>
                <a:ea typeface="Monospace"/>
              </a:rPr>
              <a:t>#</a:t>
            </a:r>
            <a:r>
              <a:rPr b="0" i="1" lang="en-GB" sz="1200" spc="-1" strike="noStrike">
                <a:solidFill>
                  <a:srgbClr val="008000"/>
                </a:solidFill>
                <a:latin typeface="Courier 10 Pitch"/>
                <a:ea typeface="Monospace"/>
              </a:rPr>
              <a:t> Swiss che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</a:rPr>
              <a:t>Prepa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a0000"/>
                </a:solidFill>
                <a:latin typeface="Courier 10 Pitch"/>
                <a:ea typeface="Monospace"/>
              </a:rPr>
              <a:t>(1)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Mel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a0000"/>
                </a:solidFill>
                <a:latin typeface="Courier 10 Pitch"/>
                <a:ea typeface="Monospace"/>
              </a:rPr>
              <a:t>(2)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Eat i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27160" y="3340080"/>
            <a:ext cx="6535800" cy="2355840"/>
            <a:chOff x="2027160" y="3340080"/>
            <a:chExt cx="6535800" cy="2355840"/>
          </a:xfrm>
        </p:grpSpPr>
        <p:grpSp>
          <p:nvGrpSpPr>
            <p:cNvPr id="174" name=""/>
            <p:cNvGrpSpPr/>
            <p:nvPr/>
          </p:nvGrpSpPr>
          <p:grpSpPr>
            <a:xfrm>
              <a:off x="2027160" y="3340080"/>
              <a:ext cx="1025640" cy="1179360"/>
              <a:chOff x="2027160" y="3340080"/>
              <a:chExt cx="1025640" cy="1179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027160" y="3340080"/>
                <a:ext cx="1025640" cy="1179360"/>
              </a:xfrm>
              <a:custGeom>
                <a:avLst/>
                <a:gdLst>
                  <a:gd name="textAreaLeft" fmla="*/ 360 w 1025640"/>
                  <a:gd name="textAreaRight" fmla="*/ 1025280 w 102564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4836">
                    <a:moveTo>
                      <a:pt x="30" y="0"/>
                    </a:moveTo>
                    <a:arcTo wR="30" hR="30" stAng="16200000" swAng="-5400000"/>
                    <a:lnTo>
                      <a:pt x="0" y="24806"/>
                    </a:lnTo>
                    <a:arcTo wR="30" hR="30" stAng="10800000" swAng="-5400000"/>
                    <a:lnTo>
                      <a:pt x="21570" y="24836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27160" y="3340080"/>
                <a:ext cx="1025640" cy="1179360"/>
              </a:xfrm>
              <a:custGeom>
                <a:avLst/>
                <a:gdLst>
                  <a:gd name="textAreaLeft" fmla="*/ 360 w 1025640"/>
                  <a:gd name="textAreaRight" fmla="*/ 1025280 w 102564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4836">
                    <a:moveTo>
                      <a:pt x="30" y="0"/>
                    </a:moveTo>
                    <a:arcTo wR="30" hR="30" stAng="16200000" swAng="-5400000"/>
                    <a:lnTo>
                      <a:pt x="0" y="24806"/>
                    </a:lnTo>
                    <a:arcTo wR="30" hR="30" stAng="10800000" swAng="-5400000"/>
                    <a:lnTo>
                      <a:pt x="21570" y="24836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Present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concil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859280" y="3340080"/>
              <a:ext cx="1069920" cy="1179360"/>
              <a:chOff x="4859280" y="3340080"/>
              <a:chExt cx="1069920" cy="1179360"/>
            </a:xfrm>
          </p:grpSpPr>
          <p:sp>
            <p:nvSpPr>
              <p:cNvPr id="178" name=""/>
              <p:cNvSpPr/>
              <p:nvPr/>
            </p:nvSpPr>
            <p:spPr>
              <a:xfrm>
                <a:off x="4859280" y="3340080"/>
                <a:ext cx="1069920" cy="1179360"/>
              </a:xfrm>
              <a:custGeom>
                <a:avLst/>
                <a:gdLst>
                  <a:gd name="textAreaLeft" fmla="*/ 360 w 1069920"/>
                  <a:gd name="textAreaRight" fmla="*/ 1069560 w 106992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3809">
                    <a:moveTo>
                      <a:pt x="30" y="0"/>
                    </a:moveTo>
                    <a:arcTo wR="30" hR="30" stAng="16200000" swAng="-5400000"/>
                    <a:lnTo>
                      <a:pt x="0" y="23779"/>
                    </a:lnTo>
                    <a:arcTo wR="30" hR="30" stAng="10800000" swAng="-5400000"/>
                    <a:lnTo>
                      <a:pt x="21570" y="23809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59280" y="3340080"/>
                <a:ext cx="1069920" cy="1179360"/>
              </a:xfrm>
              <a:custGeom>
                <a:avLst/>
                <a:gdLst>
                  <a:gd name="textAreaLeft" fmla="*/ 360 w 1069920"/>
                  <a:gd name="textAreaRight" fmla="*/ 1069560 w 106992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3809">
                    <a:moveTo>
                      <a:pt x="30" y="0"/>
                    </a:moveTo>
                    <a:arcTo wR="30" hR="30" stAng="16200000" swAng="-5400000"/>
                    <a:lnTo>
                      <a:pt x="0" y="23779"/>
                    </a:lnTo>
                    <a:arcTo wR="30" hR="30" stAng="10800000" swAng="-5400000"/>
                    <a:lnTo>
                      <a:pt x="21570" y="23809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Defaul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Damag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pair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993000" y="3340080"/>
              <a:ext cx="981000" cy="1179360"/>
              <a:chOff x="6993000" y="3340080"/>
              <a:chExt cx="981000" cy="1179360"/>
            </a:xfrm>
          </p:grpSpPr>
          <p:sp>
            <p:nvSpPr>
              <p:cNvPr id="181" name=""/>
              <p:cNvSpPr/>
              <p:nvPr/>
            </p:nvSpPr>
            <p:spPr>
              <a:xfrm>
                <a:off x="6993000" y="3340080"/>
                <a:ext cx="981000" cy="1179360"/>
              </a:xfrm>
              <a:custGeom>
                <a:avLst/>
                <a:gdLst>
                  <a:gd name="textAreaLeft" fmla="*/ 360 w 981000"/>
                  <a:gd name="textAreaRight" fmla="*/ 980640 w 98100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5966">
                    <a:moveTo>
                      <a:pt x="30" y="0"/>
                    </a:moveTo>
                    <a:arcTo wR="30" hR="30" stAng="16200000" swAng="-5400000"/>
                    <a:lnTo>
                      <a:pt x="0" y="25936"/>
                    </a:lnTo>
                    <a:arcTo wR="30" hR="30" stAng="10800000" swAng="-5400000"/>
                    <a:lnTo>
                      <a:pt x="21570" y="25966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93000" y="3340080"/>
                <a:ext cx="981000" cy="1179360"/>
              </a:xfrm>
              <a:custGeom>
                <a:avLst/>
                <a:gdLst>
                  <a:gd name="textAreaLeft" fmla="*/ 360 w 981000"/>
                  <a:gd name="textAreaRight" fmla="*/ 980640 w 981000"/>
                  <a:gd name="textAreaTop" fmla="*/ 360 h 1179360"/>
                  <a:gd name="textAreaBottom" fmla="*/ 1179000 h 1179360"/>
                </a:gdLst>
                <a:ahLst/>
                <a:rect l="textAreaLeft" t="textAreaTop" r="textAreaRight" b="textAreaBottom"/>
                <a:pathLst>
                  <a:path w="21600" h="25966">
                    <a:moveTo>
                      <a:pt x="30" y="0"/>
                    </a:moveTo>
                    <a:arcTo wR="30" hR="30" stAng="16200000" swAng="-5400000"/>
                    <a:lnTo>
                      <a:pt x="0" y="25936"/>
                    </a:lnTo>
                    <a:arcTo wR="30" hR="30" stAng="10800000" swAng="-5400000"/>
                    <a:lnTo>
                      <a:pt x="21570" y="25966"/>
                    </a:lnTo>
                    <a:arcTo wR="30" hR="30" stAng="5400000" swAng="-5400000"/>
                    <a:lnTo>
                      <a:pt x="21600" y="30"/>
                    </a:lnTo>
                    <a:arcTo wR="30" hR="30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uleBase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cann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381720" y="5106960"/>
              <a:ext cx="884160" cy="588960"/>
              <a:chOff x="6381720" y="5106960"/>
              <a:chExt cx="884160" cy="588960"/>
            </a:xfrm>
          </p:grpSpPr>
          <p:sp>
            <p:nvSpPr>
              <p:cNvPr id="184" name=""/>
              <p:cNvSpPr/>
              <p:nvPr/>
            </p:nvSpPr>
            <p:spPr>
              <a:xfrm>
                <a:off x="6381720" y="5106960"/>
                <a:ext cx="884160" cy="588960"/>
              </a:xfrm>
              <a:prstGeom prst="roundRect">
                <a:avLst>
                  <a:gd name="adj" fmla="val 20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81720" y="5106960"/>
                <a:ext cx="884160" cy="588960"/>
              </a:xfrm>
              <a:prstGeom prst="roundRect">
                <a:avLst>
                  <a:gd name="adj" fmla="val 20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WordRu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678800" y="5106960"/>
              <a:ext cx="884160" cy="588960"/>
              <a:chOff x="7678800" y="5106960"/>
              <a:chExt cx="884160" cy="588960"/>
            </a:xfrm>
          </p:grpSpPr>
          <p:sp>
            <p:nvSpPr>
              <p:cNvPr id="187" name=""/>
              <p:cNvSpPr/>
              <p:nvPr/>
            </p:nvSpPr>
            <p:spPr>
              <a:xfrm>
                <a:off x="7678800" y="5106960"/>
                <a:ext cx="884160" cy="588960"/>
              </a:xfrm>
              <a:prstGeom prst="roundRect">
                <a:avLst>
                  <a:gd name="adj" fmla="val 20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78800" y="5106960"/>
                <a:ext cx="884160" cy="588960"/>
              </a:xfrm>
              <a:prstGeom prst="roundRect">
                <a:avLst>
                  <a:gd name="adj" fmla="val 20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ingleLi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u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9" name=""/>
            <p:cNvCxnSpPr>
              <a:stCxn id="174" idx="3"/>
              <a:endCxn id="177" idx="1"/>
            </p:cNvCxnSpPr>
            <p:nvPr/>
          </p:nvCxnSpPr>
          <p:spPr>
            <a:xfrm>
              <a:off x="3052800" y="3929040"/>
              <a:ext cx="18072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90" name=""/>
            <p:cNvCxnSpPr>
              <a:stCxn id="177" idx="3"/>
              <a:endCxn id="180" idx="1"/>
            </p:cNvCxnSpPr>
            <p:nvPr/>
          </p:nvCxnSpPr>
          <p:spPr>
            <a:xfrm>
              <a:off x="5928840" y="3929040"/>
              <a:ext cx="10659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91" name=""/>
            <p:cNvCxnSpPr>
              <a:stCxn id="180" idx="2"/>
            </p:cNvCxnSpPr>
            <p:nvPr/>
          </p:nvCxnSpPr>
          <p:spPr>
            <a:xfrm>
              <a:off x="7484760" y="4518000"/>
              <a:ext cx="3960" cy="5277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192" name=""/>
            <p:cNvCxnSpPr>
              <a:stCxn id="183" idx="3"/>
              <a:endCxn id="186" idx="1"/>
            </p:cNvCxnSpPr>
            <p:nvPr/>
          </p:nvCxnSpPr>
          <p:spPr>
            <a:xfrm>
              <a:off x="7265520" y="5401800"/>
              <a:ext cx="41364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round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0BD3-AEBA-45A6-8ABE-232941E58A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he Presentation Reconcile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1400" y="1963800"/>
            <a:ext cx="7936560" cy="219348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PresentationReconcil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getPresentationReconcil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Sourc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sourceViewer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PresentationReconciler reconciler= </a:t>
            </a:r>
            <a:r>
              <a:rPr b="1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PresentationReconcil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econcil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etDocumentPartition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1" lang="en-GB" sz="1200" spc="-1" strike="noStrike">
                <a:solidFill>
                  <a:srgbClr val="005400"/>
                </a:solidFill>
                <a:latin typeface="Courier 10 Pitch"/>
                <a:ea typeface="Monospace"/>
              </a:rPr>
              <a:t>getConfiguredDocumentPartition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sourceViewer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Token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tokenScanner 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getRecipe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DefaultDamagerRepairer damagerRepairer= </a:t>
            </a:r>
            <a:r>
              <a:rPr b="1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DefaultDamagerRepair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tokenScann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econcil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etDamag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damagerRepairer, 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.</a:t>
            </a:r>
            <a:r>
              <a:rPr b="0" lang="en-GB" sz="1200" spc="-1" strike="noStrike">
                <a:solidFill>
                  <a:srgbClr val="4e0095"/>
                </a:solidFill>
                <a:latin typeface="Courier 10 Pitch"/>
                <a:ea typeface="Monospace"/>
              </a:rPr>
              <a:t>DEFAULT_CONTENT_TY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econcil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etRepair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damagerRepairer, 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.</a:t>
            </a:r>
            <a:r>
              <a:rPr b="0" lang="en-GB" sz="1200" spc="-1" strike="noStrike">
                <a:solidFill>
                  <a:srgbClr val="4e0095"/>
                </a:solidFill>
                <a:latin typeface="Courier 10 Pitch"/>
                <a:ea typeface="Monospace"/>
              </a:rPr>
              <a:t>DEFAULT_CONTENT_TY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	</a:t>
            </a:r>
            <a:r>
              <a:rPr b="1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reconcil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C627-63BF-4537-871F-9A4FB0B343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219720" y="1380960"/>
            <a:ext cx="1911600" cy="1838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Set the Rul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09960" y="3851280"/>
            <a:ext cx="7101720" cy="219348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I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LeadingDash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IToke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dashToken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Toke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TextAttribu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fColor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getCol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GB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200, 100, 100)),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Monospace"/>
              </a:rPr>
              <a:t>// fore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ul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,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Monospace"/>
              </a:rPr>
              <a:t>//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WT.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Monospace"/>
              </a:rPr>
              <a:t>BOL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)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Monospace"/>
              </a:rPr>
              <a:t>//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WordRule wordRule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Word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impleWordDetec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wordRule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addWor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Monospace"/>
              </a:rPr>
              <a:t>"-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, dashTok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wordRule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etColumnConstrai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wordRu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1080" y="1440000"/>
            <a:ext cx="4732560" cy="219348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IToken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getRecipe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uleBasedScanner scanner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uleBased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I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[] rules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Monospace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Monospace"/>
              </a:rPr>
              <a:t>I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[4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rules[0]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SectionTitle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rules[1]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Quantity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rules[2]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LeadingDash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rules[3]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Step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scann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setRule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rul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scann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3360" y="1308240"/>
            <a:ext cx="890640" cy="293400"/>
          </a:xfrm>
          <a:prstGeom prst="ellipse">
            <a:avLst/>
          </a:prstGeom>
          <a:noFill/>
          <a:ln w="36000">
            <a:solidFill>
              <a:srgbClr val="6b4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780000" y="1507680"/>
            <a:ext cx="2401560" cy="833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3360" y="2805120"/>
            <a:ext cx="314280" cy="293760"/>
          </a:xfrm>
          <a:prstGeom prst="ellipse">
            <a:avLst/>
          </a:prstGeom>
          <a:noFill/>
          <a:ln w="36000">
            <a:solidFill>
              <a:srgbClr val="6b4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7800" y="1979640"/>
            <a:ext cx="244440" cy="276120"/>
          </a:xfrm>
          <a:prstGeom prst="ellipse">
            <a:avLst/>
          </a:prstGeom>
          <a:noFill/>
          <a:ln w="36000">
            <a:solidFill>
              <a:srgbClr val="6b4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99280" y="1800360"/>
            <a:ext cx="720720" cy="293400"/>
          </a:xfrm>
          <a:prstGeom prst="ellipse">
            <a:avLst/>
          </a:prstGeom>
          <a:noFill/>
          <a:ln w="36000">
            <a:solidFill>
              <a:srgbClr val="6b47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21080" y="1960200"/>
            <a:ext cx="3773520" cy="544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780000" y="2209320"/>
            <a:ext cx="2357280" cy="49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60720" y="2879640"/>
            <a:ext cx="3111480" cy="68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3196-E37C-45A2-A068-02091C04078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49880" y="790560"/>
            <a:ext cx="2797200" cy="26607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75000" y="1200240"/>
            <a:ext cx="2845800" cy="1932120"/>
            <a:chOff x="6075000" y="1200240"/>
            <a:chExt cx="2845800" cy="1932120"/>
          </a:xfrm>
        </p:grpSpPr>
        <p:grpSp>
          <p:nvGrpSpPr>
            <p:cNvPr id="209" name=""/>
            <p:cNvGrpSpPr/>
            <p:nvPr/>
          </p:nvGrpSpPr>
          <p:grpSpPr>
            <a:xfrm>
              <a:off x="6075000" y="1200240"/>
              <a:ext cx="2845800" cy="1932120"/>
              <a:chOff x="6075000" y="1200240"/>
              <a:chExt cx="2845800" cy="1932120"/>
            </a:xfrm>
          </p:grpSpPr>
          <p:sp>
            <p:nvSpPr>
              <p:cNvPr id="210" name=""/>
              <p:cNvSpPr/>
              <p:nvPr/>
            </p:nvSpPr>
            <p:spPr>
              <a:xfrm>
                <a:off x="6215040" y="1224000"/>
                <a:ext cx="2552760" cy="1879560"/>
              </a:xfrm>
              <a:custGeom>
                <a:avLst/>
                <a:gdLst/>
                <a:ahLst/>
                <a:rect l="l" t="t" r="r" b="b"/>
                <a:pathLst>
                  <a:path w="7090" h="5221">
                    <a:moveTo>
                      <a:pt x="0" y="0"/>
                    </a:moveTo>
                    <a:lnTo>
                      <a:pt x="1176" y="0"/>
                    </a:lnTo>
                    <a:lnTo>
                      <a:pt x="1176" y="588"/>
                    </a:lnTo>
                    <a:lnTo>
                      <a:pt x="3544" y="588"/>
                    </a:lnTo>
                    <a:lnTo>
                      <a:pt x="3544" y="1167"/>
                    </a:lnTo>
                    <a:lnTo>
                      <a:pt x="1176" y="1167"/>
                    </a:lnTo>
                    <a:lnTo>
                      <a:pt x="1176" y="1746"/>
                    </a:lnTo>
                    <a:lnTo>
                      <a:pt x="4430" y="1746"/>
                    </a:lnTo>
                    <a:lnTo>
                      <a:pt x="4430" y="2325"/>
                    </a:lnTo>
                    <a:lnTo>
                      <a:pt x="1474" y="2325"/>
                    </a:lnTo>
                    <a:lnTo>
                      <a:pt x="1474" y="2904"/>
                    </a:lnTo>
                    <a:lnTo>
                      <a:pt x="7089" y="2904"/>
                    </a:lnTo>
                    <a:lnTo>
                      <a:pt x="7089" y="3483"/>
                    </a:lnTo>
                    <a:lnTo>
                      <a:pt x="1772" y="3483"/>
                    </a:lnTo>
                    <a:lnTo>
                      <a:pt x="1772" y="4062"/>
                    </a:lnTo>
                    <a:lnTo>
                      <a:pt x="6492" y="4062"/>
                    </a:lnTo>
                    <a:lnTo>
                      <a:pt x="6492" y="4641"/>
                    </a:lnTo>
                    <a:lnTo>
                      <a:pt x="588" y="4641"/>
                    </a:lnTo>
                    <a:lnTo>
                      <a:pt x="588" y="5220"/>
                    </a:lnTo>
                    <a:lnTo>
                      <a:pt x="0" y="52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229440" y="1200240"/>
                <a:ext cx="2526480" cy="19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/**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* Javadoc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*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class Editor {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/*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 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* Multiline comment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 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*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  </a:t>
                </a: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String field= "42"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9280"/>
                    <a:tab algn="l" pos="358920"/>
                    <a:tab algn="l" pos="539640"/>
                    <a:tab algn="l" pos="719280"/>
                    <a:tab algn="l" pos="898560"/>
                    <a:tab algn="l" pos="1447920"/>
                    <a:tab algn="l" pos="21718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ourier 10 Pitch"/>
                  </a:rPr>
                  <a:t>}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6075000" y="1224000"/>
                <a:ext cx="2845800" cy="1884600"/>
                <a:chOff x="6075000" y="1224000"/>
                <a:chExt cx="2845800" cy="18846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643800" y="1227240"/>
                  <a:ext cx="3240" cy="16700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432480" y="1227240"/>
                  <a:ext cx="1800" cy="187956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326280" y="1227240"/>
                  <a:ext cx="1440" cy="187956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539040" y="1227240"/>
                  <a:ext cx="1440" cy="16682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6075000" y="1227240"/>
                  <a:ext cx="288360" cy="1881360"/>
                  <a:chOff x="6075000" y="1227240"/>
                  <a:chExt cx="288360" cy="18813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>
                    <a:off x="6216480" y="1227240"/>
                    <a:ext cx="5040" cy="187956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5400000">
                    <a:off x="5278680" y="2023920"/>
                    <a:ext cx="18810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>
                  <a:off x="6751800" y="1854360"/>
                  <a:ext cx="1440" cy="10396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858000" y="2479680"/>
                  <a:ext cx="1440" cy="4176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96420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28352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17696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828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6925680" y="2683800"/>
                  <a:ext cx="291960" cy="214560"/>
                  <a:chOff x="6925680" y="2683800"/>
                  <a:chExt cx="291960" cy="2145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7070760" y="268776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5340000">
                    <a:off x="6966720" y="26467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770724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60248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81524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7353000" y="2687760"/>
                  <a:ext cx="288360" cy="209880"/>
                  <a:chOff x="7353000" y="2687760"/>
                  <a:chExt cx="288360" cy="2098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>
                    <a:off x="7494480" y="2687760"/>
                    <a:ext cx="50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5400000">
                    <a:off x="7392240" y="26485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>
                  <a:off x="813276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02800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23896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7778520" y="2687760"/>
                  <a:ext cx="288360" cy="209880"/>
                  <a:chOff x="7778520" y="2687760"/>
                  <a:chExt cx="288360" cy="2098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>
                    <a:off x="7919640" y="2687760"/>
                    <a:ext cx="468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5400000">
                    <a:off x="7817760" y="26485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>
                  <a:off x="855828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451720" y="2687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8200440" y="2683800"/>
                  <a:ext cx="291960" cy="214560"/>
                  <a:chOff x="8200440" y="2683800"/>
                  <a:chExt cx="291960" cy="21456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345520" y="268776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rot="5340000">
                    <a:off x="8241480" y="26467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6221520" y="2062080"/>
                  <a:ext cx="1592280" cy="1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218280" y="1224000"/>
                  <a:ext cx="42552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221520" y="1431720"/>
                  <a:ext cx="1272960" cy="46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221520" y="1644480"/>
                  <a:ext cx="1274760" cy="1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221520" y="1852560"/>
                  <a:ext cx="1593720" cy="1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6221520" y="2266560"/>
                  <a:ext cx="2550960" cy="46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221520" y="2479680"/>
                  <a:ext cx="255096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221520" y="2687760"/>
                  <a:ext cx="2336760" cy="28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221520" y="2897280"/>
                  <a:ext cx="2336760" cy="14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221520" y="3105000"/>
                  <a:ext cx="210960" cy="180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5800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96420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28352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7696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38972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6925680" y="2266200"/>
                  <a:ext cx="291960" cy="214920"/>
                  <a:chOff x="6925680" y="2266200"/>
                  <a:chExt cx="291960" cy="21492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7070760" y="2270160"/>
                    <a:ext cx="1440" cy="20808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rot="5340000">
                    <a:off x="6966720" y="2229120"/>
                    <a:ext cx="20988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4" name=""/>
                <p:cNvSpPr/>
                <p:nvPr/>
              </p:nvSpPr>
              <p:spPr>
                <a:xfrm>
                  <a:off x="770904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60248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1524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"/>
                <p:cNvGrpSpPr/>
                <p:nvPr/>
              </p:nvGrpSpPr>
              <p:grpSpPr>
                <a:xfrm>
                  <a:off x="7354440" y="2270160"/>
                  <a:ext cx="288360" cy="209880"/>
                  <a:chOff x="7354440" y="2270160"/>
                  <a:chExt cx="288360" cy="2098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H="1">
                    <a:off x="7495920" y="2270160"/>
                    <a:ext cx="4680" cy="20808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rot="5400000">
                    <a:off x="7393680" y="22309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813420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2800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24076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7779960" y="2270160"/>
                  <a:ext cx="288360" cy="209880"/>
                  <a:chOff x="7779960" y="2270160"/>
                  <a:chExt cx="288360" cy="2098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 flipH="1">
                    <a:off x="7921440" y="2270160"/>
                    <a:ext cx="4680" cy="20808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5400000">
                    <a:off x="7819200" y="22309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>
                  <a:off x="855828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45172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664480" y="227016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8200440" y="2266200"/>
                  <a:ext cx="291960" cy="214920"/>
                  <a:chOff x="8200440" y="2266200"/>
                  <a:chExt cx="291960" cy="2149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8345520" y="2270160"/>
                    <a:ext cx="1440" cy="20808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5340000">
                    <a:off x="8241480" y="2229120"/>
                    <a:ext cx="20988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8632440" y="2268720"/>
                  <a:ext cx="288360" cy="211320"/>
                  <a:chOff x="8632440" y="2268720"/>
                  <a:chExt cx="288360" cy="2113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8775720" y="2270160"/>
                    <a:ext cx="1440" cy="2095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5400000">
                    <a:off x="8670960" y="2230200"/>
                    <a:ext cx="2113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"/>
                <p:cNvSpPr/>
                <p:nvPr/>
              </p:nvSpPr>
              <p:spPr>
                <a:xfrm>
                  <a:off x="6854760" y="18543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964200" y="18543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283520" y="18543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176960" y="18543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389720" y="18543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6925680" y="1850400"/>
                  <a:ext cx="291960" cy="214560"/>
                  <a:chOff x="6925680" y="1850400"/>
                  <a:chExt cx="291960" cy="2145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7070760" y="185436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5340000">
                    <a:off x="6966720" y="18133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>
                  <a:off x="7709040" y="18543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2480" y="18543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5240" y="18543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7354440" y="1854360"/>
                  <a:ext cx="288360" cy="209880"/>
                  <a:chOff x="7354440" y="1854360"/>
                  <a:chExt cx="288360" cy="20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>
                    <a:off x="7495920" y="1854360"/>
                    <a:ext cx="468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5400000">
                    <a:off x="7393680" y="18151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685800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964200" y="1436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28352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176960" y="1436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389720" y="1436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6925680" y="1432800"/>
                  <a:ext cx="291960" cy="214560"/>
                  <a:chOff x="6925680" y="1432800"/>
                  <a:chExt cx="291960" cy="21456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7070760" y="143676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5340000">
                    <a:off x="6966720" y="13957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7349760" y="1435320"/>
                  <a:ext cx="288360" cy="209520"/>
                  <a:chOff x="7349760" y="1435320"/>
                  <a:chExt cx="288360" cy="209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493040" y="1436760"/>
                    <a:ext cx="1440" cy="207720"/>
                  </a:xfrm>
                  <a:prstGeom prst="line">
                    <a:avLst/>
                  </a:prstGeom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rot="5400000">
                    <a:off x="7389000" y="1395720"/>
                    <a:ext cx="20952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spAutoFit/>
                  </a:bodyPr>
                  <a:p>
                    <a:pPr algn="ctr">
                      <a:lnSpc>
                        <a:spcPct val="93000"/>
                      </a:lnSpc>
                      <a:tabLst>
                        <a:tab algn="l" pos="0"/>
                        <a:tab algn="l" pos="35892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333080"/>
                        <a:tab algn="l" pos="10782360"/>
                      </a:tabLst>
                    </a:pP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6746760" y="1436760"/>
                  <a:ext cx="180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6858000" y="1857240"/>
                <a:ext cx="633240" cy="208080"/>
              </a:xfrm>
              <a:prstGeom prst="roundRect">
                <a:avLst>
                  <a:gd name="adj" fmla="val 769"/>
                </a:avLst>
              </a:prstGeom>
              <a:solidFill>
                <a:srgbClr val="ff0000">
                  <a:alpha val="2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32480" y="2687760"/>
                <a:ext cx="635040" cy="207720"/>
              </a:xfrm>
              <a:prstGeom prst="roundRect">
                <a:avLst>
                  <a:gd name="adj" fmla="val 769"/>
                </a:avLst>
              </a:prstGeom>
              <a:solidFill>
                <a:srgbClr val="ff0000">
                  <a:alpha val="20000"/>
                </a:srgbClr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6075000" y="1200240"/>
            <a:ext cx="2845800" cy="1932120"/>
            <a:chOff x="6075000" y="1200240"/>
            <a:chExt cx="2845800" cy="1932120"/>
          </a:xfrm>
        </p:grpSpPr>
        <p:sp>
          <p:nvSpPr>
            <p:cNvPr id="314" name=""/>
            <p:cNvSpPr/>
            <p:nvPr/>
          </p:nvSpPr>
          <p:spPr>
            <a:xfrm>
              <a:off x="6215040" y="1224000"/>
              <a:ext cx="2552760" cy="1879560"/>
            </a:xfrm>
            <a:custGeom>
              <a:avLst/>
              <a:gdLst/>
              <a:ahLst/>
              <a:rect l="l" t="t" r="r" b="b"/>
              <a:pathLst>
                <a:path w="7090" h="5221">
                  <a:moveTo>
                    <a:pt x="0" y="0"/>
                  </a:moveTo>
                  <a:lnTo>
                    <a:pt x="1176" y="0"/>
                  </a:lnTo>
                  <a:lnTo>
                    <a:pt x="1176" y="588"/>
                  </a:lnTo>
                  <a:lnTo>
                    <a:pt x="3544" y="588"/>
                  </a:lnTo>
                  <a:lnTo>
                    <a:pt x="3544" y="1167"/>
                  </a:lnTo>
                  <a:lnTo>
                    <a:pt x="1176" y="1167"/>
                  </a:lnTo>
                  <a:lnTo>
                    <a:pt x="1176" y="1746"/>
                  </a:lnTo>
                  <a:lnTo>
                    <a:pt x="4430" y="1746"/>
                  </a:lnTo>
                  <a:lnTo>
                    <a:pt x="4430" y="2325"/>
                  </a:lnTo>
                  <a:lnTo>
                    <a:pt x="1474" y="2325"/>
                  </a:lnTo>
                  <a:lnTo>
                    <a:pt x="1474" y="2904"/>
                  </a:lnTo>
                  <a:lnTo>
                    <a:pt x="7089" y="2904"/>
                  </a:lnTo>
                  <a:lnTo>
                    <a:pt x="7089" y="3483"/>
                  </a:lnTo>
                  <a:lnTo>
                    <a:pt x="1772" y="3483"/>
                  </a:lnTo>
                  <a:lnTo>
                    <a:pt x="1772" y="4062"/>
                  </a:lnTo>
                  <a:lnTo>
                    <a:pt x="6492" y="4062"/>
                  </a:lnTo>
                  <a:lnTo>
                    <a:pt x="6492" y="4641"/>
                  </a:lnTo>
                  <a:lnTo>
                    <a:pt x="588" y="4641"/>
                  </a:lnTo>
                  <a:lnTo>
                    <a:pt x="588" y="5220"/>
                  </a:lnTo>
                  <a:lnTo>
                    <a:pt x="0" y="522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29440" y="1200240"/>
              <a:ext cx="252648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/*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* Javado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class Editor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/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* Multiline com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String field= </a:t>
              </a:r>
              <a:r>
                <a:rPr b="0" lang="en-GB" sz="1400" spc="-1" strike="noStrike">
                  <a:solidFill>
                    <a:srgbClr val="ff3333"/>
                  </a:solidFill>
                  <a:latin typeface="Courier 10 Pitch"/>
                </a:rPr>
                <a:t>"42"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6075000" y="1224000"/>
              <a:ext cx="2845800" cy="1884600"/>
              <a:chOff x="6075000" y="1224000"/>
              <a:chExt cx="2845800" cy="1884600"/>
            </a:xfrm>
          </p:grpSpPr>
          <p:sp>
            <p:nvSpPr>
              <p:cNvPr id="317" name=""/>
              <p:cNvSpPr/>
              <p:nvPr/>
            </p:nvSpPr>
            <p:spPr>
              <a:xfrm>
                <a:off x="6643800" y="1227240"/>
                <a:ext cx="3240" cy="16700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32480" y="1227240"/>
                <a:ext cx="1800" cy="187956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26280" y="1227240"/>
                <a:ext cx="1440" cy="187956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539040" y="1227240"/>
                <a:ext cx="1440" cy="16682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6075000" y="1227240"/>
                <a:ext cx="288360" cy="1881360"/>
                <a:chOff x="6075000" y="1227240"/>
                <a:chExt cx="288360" cy="1881360"/>
              </a:xfrm>
            </p:grpSpPr>
            <p:sp>
              <p:nvSpPr>
                <p:cNvPr id="322" name=""/>
                <p:cNvSpPr/>
                <p:nvPr/>
              </p:nvSpPr>
              <p:spPr>
                <a:xfrm flipH="1">
                  <a:off x="6216480" y="1227240"/>
                  <a:ext cx="5040" cy="187956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400000">
                  <a:off x="5278680" y="2023920"/>
                  <a:ext cx="1881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6751800" y="1854360"/>
                <a:ext cx="1440" cy="103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58000" y="2479680"/>
                <a:ext cx="1440" cy="4176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6420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8352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7696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8828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6925680" y="2683800"/>
                <a:ext cx="291960" cy="214560"/>
                <a:chOff x="6925680" y="2683800"/>
                <a:chExt cx="291960" cy="2145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07076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5340000">
                  <a:off x="6966720" y="2646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770724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0248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524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7353000" y="2687760"/>
                <a:ext cx="288360" cy="209880"/>
                <a:chOff x="7353000" y="2687760"/>
                <a:chExt cx="288360" cy="209880"/>
              </a:xfrm>
            </p:grpSpPr>
            <p:sp>
              <p:nvSpPr>
                <p:cNvPr id="337" name=""/>
                <p:cNvSpPr/>
                <p:nvPr/>
              </p:nvSpPr>
              <p:spPr>
                <a:xfrm flipH="1">
                  <a:off x="7494480" y="2687760"/>
                  <a:ext cx="50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5400000">
                  <a:off x="7392240" y="26485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"/>
              <p:cNvSpPr/>
              <p:nvPr/>
            </p:nvSpPr>
            <p:spPr>
              <a:xfrm>
                <a:off x="813276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2800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23896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7778520" y="2687760"/>
                <a:ext cx="288360" cy="209880"/>
                <a:chOff x="7778520" y="2687760"/>
                <a:chExt cx="288360" cy="2098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7919640" y="2687760"/>
                  <a:ext cx="468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5400000">
                  <a:off x="7817760" y="26485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8558280" y="2687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51720" y="2687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8200440" y="2683800"/>
                <a:ext cx="291960" cy="214560"/>
                <a:chOff x="8200440" y="2683800"/>
                <a:chExt cx="291960" cy="2145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34552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340000">
                  <a:off x="8241480" y="2646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221520" y="2062080"/>
                <a:ext cx="159228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218280" y="1224000"/>
                <a:ext cx="4255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221520" y="1431720"/>
                <a:ext cx="1272960" cy="4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21520" y="1644480"/>
                <a:ext cx="12747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221520" y="1852560"/>
                <a:ext cx="159372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221520" y="2266560"/>
                <a:ext cx="2550960" cy="4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21520" y="2479680"/>
                <a:ext cx="25509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21520" y="2687760"/>
                <a:ext cx="2336760" cy="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21520" y="2897280"/>
                <a:ext cx="23367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21520" y="3105000"/>
                <a:ext cx="2109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85800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6420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8352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17696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972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6925680" y="2266200"/>
                <a:ext cx="291960" cy="214920"/>
                <a:chOff x="6925680" y="2266200"/>
                <a:chExt cx="291960" cy="214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07076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5340000">
                  <a:off x="6966720" y="222912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70904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0248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81524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54440" y="2270160"/>
                <a:ext cx="288360" cy="209880"/>
                <a:chOff x="7354440" y="2270160"/>
                <a:chExt cx="288360" cy="209880"/>
              </a:xfrm>
            </p:grpSpPr>
            <p:sp>
              <p:nvSpPr>
                <p:cNvPr id="372" name=""/>
                <p:cNvSpPr/>
                <p:nvPr/>
              </p:nvSpPr>
              <p:spPr>
                <a:xfrm flipH="1">
                  <a:off x="7495920" y="227016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5400000">
                  <a:off x="7393680" y="22309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813420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2800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4076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779960" y="2270160"/>
                <a:ext cx="288360" cy="209880"/>
                <a:chOff x="7779960" y="2270160"/>
                <a:chExt cx="288360" cy="209880"/>
              </a:xfrm>
            </p:grpSpPr>
            <p:sp>
              <p:nvSpPr>
                <p:cNvPr id="378" name=""/>
                <p:cNvSpPr/>
                <p:nvPr/>
              </p:nvSpPr>
              <p:spPr>
                <a:xfrm flipH="1">
                  <a:off x="7921440" y="227016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5400000">
                  <a:off x="7819200" y="22309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8558280" y="227016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5172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664480" y="227016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8200440" y="2266200"/>
                <a:ext cx="291960" cy="214920"/>
                <a:chOff x="8200440" y="2266200"/>
                <a:chExt cx="291960" cy="214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834552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340000">
                  <a:off x="8241480" y="222912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8632440" y="2268720"/>
                <a:ext cx="288360" cy="211320"/>
                <a:chOff x="8632440" y="2268720"/>
                <a:chExt cx="288360" cy="2113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8775720" y="2270160"/>
                  <a:ext cx="1440" cy="2095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5400000">
                  <a:off x="8670960" y="2230200"/>
                  <a:ext cx="211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>
                <a:off x="6854760" y="18543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64200" y="18543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83520" y="18543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76960" y="18543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89720" y="18543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6925680" y="1850400"/>
                <a:ext cx="291960" cy="214560"/>
                <a:chOff x="6925680" y="1850400"/>
                <a:chExt cx="291960" cy="2145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070760" y="18543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rot="5340000">
                  <a:off x="6966720" y="18133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7709040" y="18543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02480" y="18543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815240" y="18543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7354440" y="1854360"/>
                <a:ext cx="288360" cy="209880"/>
                <a:chOff x="7354440" y="1854360"/>
                <a:chExt cx="288360" cy="209880"/>
              </a:xfrm>
            </p:grpSpPr>
            <p:sp>
              <p:nvSpPr>
                <p:cNvPr id="401" name=""/>
                <p:cNvSpPr/>
                <p:nvPr/>
              </p:nvSpPr>
              <p:spPr>
                <a:xfrm flipH="1">
                  <a:off x="7495920" y="1854360"/>
                  <a:ext cx="468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5400000">
                  <a:off x="7393680" y="18151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6858000" y="1436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64200" y="1436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83520" y="1436760"/>
                <a:ext cx="144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76960" y="1436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89720" y="1436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925680" y="1432800"/>
                <a:ext cx="291960" cy="214560"/>
                <a:chOff x="6925680" y="1432800"/>
                <a:chExt cx="291960" cy="2145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07076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5340000">
                  <a:off x="6966720" y="1395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7349760" y="1435320"/>
                <a:ext cx="288360" cy="209520"/>
                <a:chOff x="7349760" y="1435320"/>
                <a:chExt cx="288360" cy="2095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49304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rot="5400000">
                  <a:off x="7389000" y="1395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6746760" y="1436760"/>
                <a:ext cx="1800" cy="20772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"/>
          <p:cNvSpPr/>
          <p:nvPr/>
        </p:nvSpPr>
        <p:spPr>
          <a:xfrm>
            <a:off x="154080" y="942120"/>
            <a:ext cx="824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2f2672"/>
                </a:solidFill>
                <a:latin typeface="Courier 10 Pitch"/>
              </a:rPr>
              <a:t>IDocument</a:t>
            </a: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 Tex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040" y="1668600"/>
            <a:ext cx="76183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quence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random access and 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ent notifications via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  <a:ea typeface="Arial"/>
              </a:rPr>
              <a:t>IDocumentList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quence of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Query by offset and lin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nges that are adjusted to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10 Pitch"/>
                <a:ea typeface="Arial"/>
              </a:rPr>
              <a:t>IPositionUpdat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strategies handles overlapping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lice the document into segments of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 dependent – a simple semantic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75000" y="1200240"/>
            <a:ext cx="2845800" cy="1932120"/>
            <a:chOff x="6075000" y="1200240"/>
            <a:chExt cx="2845800" cy="1932120"/>
          </a:xfrm>
        </p:grpSpPr>
        <p:sp>
          <p:nvSpPr>
            <p:cNvPr id="418" name=""/>
            <p:cNvSpPr/>
            <p:nvPr/>
          </p:nvSpPr>
          <p:spPr>
            <a:xfrm>
              <a:off x="6215040" y="1224000"/>
              <a:ext cx="2552760" cy="1879560"/>
            </a:xfrm>
            <a:custGeom>
              <a:avLst/>
              <a:gdLst/>
              <a:ahLst/>
              <a:rect l="l" t="t" r="r" b="b"/>
              <a:pathLst>
                <a:path w="7090" h="5221">
                  <a:moveTo>
                    <a:pt x="0" y="0"/>
                  </a:moveTo>
                  <a:lnTo>
                    <a:pt x="1176" y="0"/>
                  </a:lnTo>
                  <a:lnTo>
                    <a:pt x="1176" y="588"/>
                  </a:lnTo>
                  <a:lnTo>
                    <a:pt x="3544" y="588"/>
                  </a:lnTo>
                  <a:lnTo>
                    <a:pt x="3544" y="1167"/>
                  </a:lnTo>
                  <a:lnTo>
                    <a:pt x="1176" y="1167"/>
                  </a:lnTo>
                  <a:lnTo>
                    <a:pt x="1176" y="1746"/>
                  </a:lnTo>
                  <a:lnTo>
                    <a:pt x="4430" y="1746"/>
                  </a:lnTo>
                  <a:lnTo>
                    <a:pt x="4430" y="2325"/>
                  </a:lnTo>
                  <a:lnTo>
                    <a:pt x="1474" y="2325"/>
                  </a:lnTo>
                  <a:lnTo>
                    <a:pt x="1474" y="2904"/>
                  </a:lnTo>
                  <a:lnTo>
                    <a:pt x="7089" y="2904"/>
                  </a:lnTo>
                  <a:lnTo>
                    <a:pt x="7089" y="3483"/>
                  </a:lnTo>
                  <a:lnTo>
                    <a:pt x="1772" y="3483"/>
                  </a:lnTo>
                  <a:lnTo>
                    <a:pt x="1772" y="4062"/>
                  </a:lnTo>
                  <a:lnTo>
                    <a:pt x="6492" y="4062"/>
                  </a:lnTo>
                  <a:lnTo>
                    <a:pt x="6492" y="4641"/>
                  </a:lnTo>
                  <a:lnTo>
                    <a:pt x="588" y="4641"/>
                  </a:lnTo>
                  <a:lnTo>
                    <a:pt x="588" y="5220"/>
                  </a:lnTo>
                  <a:lnTo>
                    <a:pt x="0" y="522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29440" y="1200240"/>
              <a:ext cx="252648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/*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* Javado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class Editor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/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* Multiline com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String field= "42"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075000" y="1224000"/>
              <a:ext cx="2845800" cy="1884600"/>
              <a:chOff x="6075000" y="1224000"/>
              <a:chExt cx="2845800" cy="1884600"/>
            </a:xfrm>
          </p:grpSpPr>
          <p:sp>
            <p:nvSpPr>
              <p:cNvPr id="421" name=""/>
              <p:cNvSpPr/>
              <p:nvPr/>
            </p:nvSpPr>
            <p:spPr>
              <a:xfrm>
                <a:off x="6643800" y="1227240"/>
                <a:ext cx="3240" cy="16700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432480" y="1227240"/>
                <a:ext cx="1800" cy="18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326280" y="1227240"/>
                <a:ext cx="1440" cy="18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39040" y="1227240"/>
                <a:ext cx="1440" cy="16682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6075000" y="1227240"/>
                <a:ext cx="288360" cy="1881360"/>
                <a:chOff x="6075000" y="1227240"/>
                <a:chExt cx="288360" cy="1881360"/>
              </a:xfrm>
            </p:grpSpPr>
            <p:sp>
              <p:nvSpPr>
                <p:cNvPr id="426" name=""/>
                <p:cNvSpPr/>
                <p:nvPr/>
              </p:nvSpPr>
              <p:spPr>
                <a:xfrm flipH="1">
                  <a:off x="6216480" y="1227240"/>
                  <a:ext cx="5040" cy="187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rot="5400000">
                  <a:off x="5278680" y="2023920"/>
                  <a:ext cx="1881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6751800" y="1854360"/>
                <a:ext cx="1440" cy="10396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858000" y="2479680"/>
                <a:ext cx="1440" cy="4176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6420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8352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7696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8828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6925680" y="2683800"/>
                <a:ext cx="291960" cy="214560"/>
                <a:chOff x="6925680" y="2683800"/>
                <a:chExt cx="291960" cy="2145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07076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5340000">
                  <a:off x="6966720" y="2646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"/>
              <p:cNvSpPr/>
              <p:nvPr/>
            </p:nvSpPr>
            <p:spPr>
              <a:xfrm>
                <a:off x="770724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0248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81524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7353000" y="2687760"/>
                <a:ext cx="288360" cy="209880"/>
                <a:chOff x="7353000" y="2687760"/>
                <a:chExt cx="288360" cy="209880"/>
              </a:xfrm>
            </p:grpSpPr>
            <p:sp>
              <p:nvSpPr>
                <p:cNvPr id="441" name=""/>
                <p:cNvSpPr/>
                <p:nvPr/>
              </p:nvSpPr>
              <p:spPr>
                <a:xfrm flipH="1">
                  <a:off x="7494480" y="2687760"/>
                  <a:ext cx="50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5400000">
                  <a:off x="7392240" y="26485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813276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02800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23896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7778520" y="2687760"/>
                <a:ext cx="288360" cy="209880"/>
                <a:chOff x="7778520" y="2687760"/>
                <a:chExt cx="288360" cy="20988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7919640" y="2687760"/>
                  <a:ext cx="468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5400000">
                  <a:off x="7817760" y="26485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8558280" y="2687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451720" y="2687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8200440" y="2683800"/>
                <a:ext cx="291960" cy="214560"/>
                <a:chOff x="8200440" y="2683800"/>
                <a:chExt cx="291960" cy="2145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8345520" y="2687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340000">
                  <a:off x="8241480" y="2646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6221520" y="2062080"/>
                <a:ext cx="1592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18280" y="1224000"/>
                <a:ext cx="42552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221520" y="1431720"/>
                <a:ext cx="1272960" cy="46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1520" y="1644480"/>
                <a:ext cx="127476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21520" y="1852560"/>
                <a:ext cx="15937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221520" y="2266560"/>
                <a:ext cx="2550960" cy="46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21520" y="2479680"/>
                <a:ext cx="255096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21520" y="2687760"/>
                <a:ext cx="2336760" cy="28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21520" y="2897280"/>
                <a:ext cx="233676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21520" y="3105000"/>
                <a:ext cx="21096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85800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6420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8352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7696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8972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6925680" y="2266200"/>
                <a:ext cx="291960" cy="214920"/>
                <a:chOff x="6925680" y="2266200"/>
                <a:chExt cx="291960" cy="2149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07076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5340000">
                  <a:off x="6966720" y="222912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770904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60248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1524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7354440" y="2270160"/>
                <a:ext cx="288360" cy="209880"/>
                <a:chOff x="7354440" y="2270160"/>
                <a:chExt cx="288360" cy="2098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>
                  <a:off x="7495920" y="227016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5400000">
                  <a:off x="7393680" y="22309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813420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2800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24076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7779960" y="2270160"/>
                <a:ext cx="288360" cy="209880"/>
                <a:chOff x="7779960" y="2270160"/>
                <a:chExt cx="288360" cy="209880"/>
              </a:xfrm>
            </p:grpSpPr>
            <p:sp>
              <p:nvSpPr>
                <p:cNvPr id="482" name=""/>
                <p:cNvSpPr/>
                <p:nvPr/>
              </p:nvSpPr>
              <p:spPr>
                <a:xfrm flipH="1">
                  <a:off x="7921440" y="227016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5400000">
                  <a:off x="7819200" y="22309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8558280" y="2270160"/>
                <a:ext cx="144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45172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664480" y="2270160"/>
                <a:ext cx="1800" cy="20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8200440" y="2266200"/>
                <a:ext cx="291960" cy="214920"/>
                <a:chOff x="8200440" y="2266200"/>
                <a:chExt cx="291960" cy="2149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8345520" y="227016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5340000">
                  <a:off x="8241480" y="222912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8632440" y="2268720"/>
                <a:ext cx="288360" cy="211320"/>
                <a:chOff x="8632440" y="2268720"/>
                <a:chExt cx="288360" cy="2113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8775720" y="2270160"/>
                  <a:ext cx="1440" cy="2095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rot="5400000">
                  <a:off x="8670960" y="2230200"/>
                  <a:ext cx="211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6854760" y="18543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964200" y="18543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283520" y="18543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176960" y="18543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389720" y="18543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6925680" y="1850400"/>
                <a:ext cx="291960" cy="214560"/>
                <a:chOff x="6925680" y="1850400"/>
                <a:chExt cx="291960" cy="2145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070760" y="18543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5340000">
                  <a:off x="6966720" y="18133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709040" y="18543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02480" y="18543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15240" y="18543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7354440" y="1854360"/>
                <a:ext cx="288360" cy="209880"/>
                <a:chOff x="7354440" y="1854360"/>
                <a:chExt cx="288360" cy="20988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7495920" y="1854360"/>
                  <a:ext cx="468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5400000">
                  <a:off x="7393680" y="18151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6858000" y="1436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64200" y="1436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83520" y="1436760"/>
                <a:ext cx="144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76960" y="1436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389720" y="1436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6925680" y="1432800"/>
                <a:ext cx="291960" cy="214560"/>
                <a:chOff x="6925680" y="1432800"/>
                <a:chExt cx="291960" cy="214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707076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340000">
                  <a:off x="6966720" y="1395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349760" y="1435320"/>
                <a:ext cx="288360" cy="209520"/>
                <a:chOff x="7349760" y="1435320"/>
                <a:chExt cx="288360" cy="2095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7493040" y="1436760"/>
                  <a:ext cx="1440" cy="20772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5400000">
                  <a:off x="7389000" y="139572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6746760" y="1436760"/>
                <a:ext cx="1800" cy="20772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"/>
          <p:cNvGrpSpPr/>
          <p:nvPr/>
        </p:nvGrpSpPr>
        <p:grpSpPr>
          <a:xfrm>
            <a:off x="6063840" y="1216080"/>
            <a:ext cx="1890360" cy="1465200"/>
            <a:chOff x="6063840" y="1216080"/>
            <a:chExt cx="1890360" cy="1465200"/>
          </a:xfrm>
        </p:grpSpPr>
        <p:sp>
          <p:nvSpPr>
            <p:cNvPr id="520" name=""/>
            <p:cNvSpPr/>
            <p:nvPr/>
          </p:nvSpPr>
          <p:spPr>
            <a:xfrm>
              <a:off x="6207120" y="1216080"/>
              <a:ext cx="1603440" cy="1465200"/>
            </a:xfrm>
            <a:prstGeom prst="roundRect">
              <a:avLst>
                <a:gd name="adj" fmla="val 106"/>
              </a:avLst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07480" y="1228680"/>
              <a:ext cx="1600920" cy="14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/**  * Javado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*/ class 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or {   /*    *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Multiline com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nt.    */   St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ing field= "42"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; 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6063840" y="1217520"/>
              <a:ext cx="1890360" cy="1463760"/>
              <a:chOff x="6063840" y="1217520"/>
              <a:chExt cx="1890360" cy="146376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6063840" y="1219320"/>
                <a:ext cx="288360" cy="1457640"/>
                <a:chOff x="6063840" y="1219320"/>
                <a:chExt cx="288360" cy="1457640"/>
              </a:xfrm>
            </p:grpSpPr>
            <p:sp>
              <p:nvSpPr>
                <p:cNvPr id="524" name=""/>
                <p:cNvSpPr/>
                <p:nvPr/>
              </p:nvSpPr>
              <p:spPr>
                <a:xfrm flipH="1">
                  <a:off x="620532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rot="5400000">
                  <a:off x="547920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6" name=""/>
              <p:cNvSpPr/>
              <p:nvPr/>
            </p:nvSpPr>
            <p:spPr>
              <a:xfrm>
                <a:off x="6210360" y="2270160"/>
                <a:ext cx="1592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07120" y="1217520"/>
                <a:ext cx="4255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10360" y="1844640"/>
                <a:ext cx="15937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170400" y="1219320"/>
                <a:ext cx="288360" cy="1457640"/>
                <a:chOff x="6170400" y="1219320"/>
                <a:chExt cx="288360" cy="145764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31152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5400000">
                  <a:off x="558576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279840" y="1219320"/>
                <a:ext cx="288360" cy="1457640"/>
                <a:chOff x="6279840" y="1219320"/>
                <a:chExt cx="288360" cy="1457640"/>
              </a:xfrm>
            </p:grpSpPr>
            <p:sp>
              <p:nvSpPr>
                <p:cNvPr id="533" name=""/>
                <p:cNvSpPr/>
                <p:nvPr/>
              </p:nvSpPr>
              <p:spPr>
                <a:xfrm flipH="1">
                  <a:off x="6421320" y="1219320"/>
                  <a:ext cx="504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5400000">
                  <a:off x="569520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387840" y="1219320"/>
                <a:ext cx="288360" cy="1457640"/>
                <a:chOff x="6387840" y="1219320"/>
                <a:chExt cx="288360" cy="1457640"/>
              </a:xfrm>
            </p:grpSpPr>
            <p:sp>
              <p:nvSpPr>
                <p:cNvPr id="536" name=""/>
                <p:cNvSpPr/>
                <p:nvPr/>
              </p:nvSpPr>
              <p:spPr>
                <a:xfrm flipH="1">
                  <a:off x="652896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5400000">
                  <a:off x="580320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487920" y="1219320"/>
                <a:ext cx="288360" cy="1457640"/>
                <a:chOff x="6487920" y="1219320"/>
                <a:chExt cx="288360" cy="1457640"/>
              </a:xfrm>
            </p:grpSpPr>
            <p:sp>
              <p:nvSpPr>
                <p:cNvPr id="539" name=""/>
                <p:cNvSpPr/>
                <p:nvPr/>
              </p:nvSpPr>
              <p:spPr>
                <a:xfrm flipH="1">
                  <a:off x="662904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rot="5400000">
                  <a:off x="590328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6630840" y="1217520"/>
                <a:ext cx="4255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6594120" y="1219320"/>
                <a:ext cx="288360" cy="1457640"/>
                <a:chOff x="6594120" y="1219320"/>
                <a:chExt cx="288360" cy="1457640"/>
              </a:xfrm>
            </p:grpSpPr>
            <p:sp>
              <p:nvSpPr>
                <p:cNvPr id="543" name=""/>
                <p:cNvSpPr/>
                <p:nvPr/>
              </p:nvSpPr>
              <p:spPr>
                <a:xfrm flipH="1">
                  <a:off x="6735600" y="1219320"/>
                  <a:ext cx="504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5400000">
                  <a:off x="600948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6703560" y="1219320"/>
                <a:ext cx="288360" cy="1457640"/>
                <a:chOff x="6703560" y="1219320"/>
                <a:chExt cx="288360" cy="1457640"/>
              </a:xfrm>
            </p:grpSpPr>
            <p:sp>
              <p:nvSpPr>
                <p:cNvPr id="546" name=""/>
                <p:cNvSpPr/>
                <p:nvPr/>
              </p:nvSpPr>
              <p:spPr>
                <a:xfrm flipH="1">
                  <a:off x="684504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rot="5400000">
                  <a:off x="611892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810120" y="1219320"/>
                <a:ext cx="288360" cy="1457640"/>
                <a:chOff x="6810120" y="1219320"/>
                <a:chExt cx="288360" cy="1457640"/>
              </a:xfrm>
            </p:grpSpPr>
            <p:sp>
              <p:nvSpPr>
                <p:cNvPr id="549" name=""/>
                <p:cNvSpPr/>
                <p:nvPr/>
              </p:nvSpPr>
              <p:spPr>
                <a:xfrm flipH="1">
                  <a:off x="695124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rot="5400000">
                  <a:off x="622548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919560" y="1219320"/>
                <a:ext cx="288360" cy="1457640"/>
                <a:chOff x="6919560" y="1219320"/>
                <a:chExt cx="288360" cy="1457640"/>
              </a:xfrm>
            </p:grpSpPr>
            <p:sp>
              <p:nvSpPr>
                <p:cNvPr id="552" name=""/>
                <p:cNvSpPr/>
                <p:nvPr/>
              </p:nvSpPr>
              <p:spPr>
                <a:xfrm flipH="1">
                  <a:off x="7061040" y="1219320"/>
                  <a:ext cx="504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rot="5400000">
                  <a:off x="633492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7062840" y="1217520"/>
                <a:ext cx="42552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7026120" y="1219320"/>
                <a:ext cx="288360" cy="1457640"/>
                <a:chOff x="7026120" y="1219320"/>
                <a:chExt cx="288360" cy="1457640"/>
              </a:xfrm>
            </p:grpSpPr>
            <p:sp>
              <p:nvSpPr>
                <p:cNvPr id="556" name=""/>
                <p:cNvSpPr/>
                <p:nvPr/>
              </p:nvSpPr>
              <p:spPr>
                <a:xfrm flipH="1">
                  <a:off x="716724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rot="5400000">
                  <a:off x="644148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7135560" y="1219320"/>
                <a:ext cx="288360" cy="1457640"/>
                <a:chOff x="7135560" y="1219320"/>
                <a:chExt cx="288360" cy="1457640"/>
              </a:xfrm>
            </p:grpSpPr>
            <p:sp>
              <p:nvSpPr>
                <p:cNvPr id="559" name=""/>
                <p:cNvSpPr/>
                <p:nvPr/>
              </p:nvSpPr>
              <p:spPr>
                <a:xfrm flipH="1">
                  <a:off x="727668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 rot="5400000">
                  <a:off x="655092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241760" y="1219320"/>
                <a:ext cx="288360" cy="1457640"/>
                <a:chOff x="7241760" y="1219320"/>
                <a:chExt cx="288360" cy="1457640"/>
              </a:xfrm>
            </p:grpSpPr>
            <p:sp>
              <p:nvSpPr>
                <p:cNvPr id="562" name=""/>
                <p:cNvSpPr/>
                <p:nvPr/>
              </p:nvSpPr>
              <p:spPr>
                <a:xfrm flipH="1">
                  <a:off x="738324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rot="5400000">
                  <a:off x="665712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7343280" y="1219320"/>
                <a:ext cx="288360" cy="1457640"/>
                <a:chOff x="7343280" y="1219320"/>
                <a:chExt cx="288360" cy="1457640"/>
              </a:xfrm>
            </p:grpSpPr>
            <p:sp>
              <p:nvSpPr>
                <p:cNvPr id="565" name=""/>
                <p:cNvSpPr/>
                <p:nvPr/>
              </p:nvSpPr>
              <p:spPr>
                <a:xfrm flipH="1">
                  <a:off x="748476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5400000">
                  <a:off x="675864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7449840" y="1219320"/>
                <a:ext cx="288360" cy="1457640"/>
                <a:chOff x="7449840" y="1219320"/>
                <a:chExt cx="288360" cy="1457640"/>
              </a:xfrm>
            </p:grpSpPr>
            <p:sp>
              <p:nvSpPr>
                <p:cNvPr id="568" name=""/>
                <p:cNvSpPr/>
                <p:nvPr/>
              </p:nvSpPr>
              <p:spPr>
                <a:xfrm flipH="1">
                  <a:off x="7591320" y="1219320"/>
                  <a:ext cx="504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5400000">
                  <a:off x="686520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7559280" y="1219320"/>
                <a:ext cx="288360" cy="1457640"/>
                <a:chOff x="7559280" y="1219320"/>
                <a:chExt cx="288360" cy="1457640"/>
              </a:xfrm>
            </p:grpSpPr>
            <p:sp>
              <p:nvSpPr>
                <p:cNvPr id="571" name=""/>
                <p:cNvSpPr/>
                <p:nvPr/>
              </p:nvSpPr>
              <p:spPr>
                <a:xfrm flipH="1">
                  <a:off x="770076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 rot="5400000">
                  <a:off x="697464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7665840" y="1219320"/>
                <a:ext cx="288360" cy="1457640"/>
                <a:chOff x="7665840" y="1219320"/>
                <a:chExt cx="288360" cy="1457640"/>
              </a:xfrm>
            </p:grpSpPr>
            <p:sp>
              <p:nvSpPr>
                <p:cNvPr id="574" name=""/>
                <p:cNvSpPr/>
                <p:nvPr/>
              </p:nvSpPr>
              <p:spPr>
                <a:xfrm flipH="1">
                  <a:off x="7806960" y="1219320"/>
                  <a:ext cx="4680" cy="1455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rot="5400000">
                  <a:off x="7081200" y="1803960"/>
                  <a:ext cx="1457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6211800" y="1427040"/>
                <a:ext cx="1592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211800" y="1219320"/>
                <a:ext cx="15940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211800" y="2065320"/>
                <a:ext cx="1592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211800" y="1641600"/>
                <a:ext cx="15940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11800" y="2679840"/>
                <a:ext cx="1592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11800" y="2475000"/>
                <a:ext cx="1592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E0E2-E4DB-4B21-BE4F-2D0AEBC7391A}" type="slidenum">
              <a:t>15</a:t>
            </a:fld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Document Partition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tioning is always up-to-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provider ensures that the partitioning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uments support multiple partitio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ument setup can also be managed by the file buffer manager (</a:t>
            </a: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o.e.core.filebuffers.documentSet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 buffer document setup should only be used if the partitioning is considered of interest for non-UI clients and never contribute the default part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10 Pitch"/>
              </a:rPr>
              <a:t>SourceViewerConfigu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eeds to know the partitioning and supported partition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251840" y="1625760"/>
            <a:ext cx="1485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157440" y="239760"/>
            <a:ext cx="2845800" cy="1932120"/>
            <a:chOff x="6157440" y="239760"/>
            <a:chExt cx="2845800" cy="1932120"/>
          </a:xfrm>
        </p:grpSpPr>
        <p:sp>
          <p:nvSpPr>
            <p:cNvPr id="586" name=""/>
            <p:cNvSpPr/>
            <p:nvPr/>
          </p:nvSpPr>
          <p:spPr>
            <a:xfrm>
              <a:off x="6297480" y="264960"/>
              <a:ext cx="2552760" cy="1879920"/>
            </a:xfrm>
            <a:custGeom>
              <a:avLst/>
              <a:gdLst/>
              <a:ahLst/>
              <a:rect l="l" t="t" r="r" b="b"/>
              <a:pathLst>
                <a:path w="7090" h="5221">
                  <a:moveTo>
                    <a:pt x="0" y="0"/>
                  </a:moveTo>
                  <a:lnTo>
                    <a:pt x="1176" y="0"/>
                  </a:lnTo>
                  <a:lnTo>
                    <a:pt x="1176" y="588"/>
                  </a:lnTo>
                  <a:lnTo>
                    <a:pt x="3544" y="588"/>
                  </a:lnTo>
                  <a:lnTo>
                    <a:pt x="3544" y="1167"/>
                  </a:lnTo>
                  <a:lnTo>
                    <a:pt x="1176" y="1167"/>
                  </a:lnTo>
                  <a:lnTo>
                    <a:pt x="1176" y="1746"/>
                  </a:lnTo>
                  <a:lnTo>
                    <a:pt x="4430" y="1746"/>
                  </a:lnTo>
                  <a:lnTo>
                    <a:pt x="4430" y="2325"/>
                  </a:lnTo>
                  <a:lnTo>
                    <a:pt x="1474" y="2325"/>
                  </a:lnTo>
                  <a:lnTo>
                    <a:pt x="1474" y="2904"/>
                  </a:lnTo>
                  <a:lnTo>
                    <a:pt x="7089" y="2904"/>
                  </a:lnTo>
                  <a:lnTo>
                    <a:pt x="7089" y="3483"/>
                  </a:lnTo>
                  <a:lnTo>
                    <a:pt x="1772" y="3483"/>
                  </a:lnTo>
                  <a:lnTo>
                    <a:pt x="1772" y="4062"/>
                  </a:lnTo>
                  <a:lnTo>
                    <a:pt x="6492" y="4062"/>
                  </a:lnTo>
                  <a:lnTo>
                    <a:pt x="6492" y="4641"/>
                  </a:lnTo>
                  <a:lnTo>
                    <a:pt x="588" y="4641"/>
                  </a:lnTo>
                  <a:lnTo>
                    <a:pt x="588" y="5220"/>
                  </a:lnTo>
                  <a:lnTo>
                    <a:pt x="0" y="522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6160" y="239760"/>
              <a:ext cx="2526480" cy="19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/*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* Javado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 </a:t>
              </a:r>
              <a:r>
                <a:rPr b="0" lang="en-GB" sz="1400" spc="-1" strike="noStrike">
                  <a:solidFill>
                    <a:srgbClr val="2300dc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class Editor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/*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* Multiline com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   </a:t>
              </a:r>
              <a:r>
                <a:rPr b="0" lang="en-GB" sz="1400" spc="-1" strike="noStrike">
                  <a:solidFill>
                    <a:srgbClr val="00ae00"/>
                  </a:solidFill>
                  <a:latin typeface="Courier 10 Pitch"/>
                </a:rPr>
                <a:t>*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String field= </a:t>
              </a:r>
              <a:r>
                <a:rPr b="0" lang="en-GB" sz="1400" spc="-1" strike="noStrike">
                  <a:solidFill>
                    <a:srgbClr val="ff3333"/>
                  </a:solidFill>
                  <a:latin typeface="Courier 10 Pitch"/>
                </a:rPr>
                <a:t>"42"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179280"/>
                  <a:tab algn="l" pos="358920"/>
                  <a:tab algn="l" pos="539640"/>
                  <a:tab algn="l" pos="719280"/>
                  <a:tab algn="l" pos="8985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10 Pitch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6157440" y="264960"/>
              <a:ext cx="2845800" cy="1883160"/>
              <a:chOff x="6157440" y="264960"/>
              <a:chExt cx="2845800" cy="1883160"/>
            </a:xfrm>
          </p:grpSpPr>
          <p:sp>
            <p:nvSpPr>
              <p:cNvPr id="589" name=""/>
              <p:cNvSpPr/>
              <p:nvPr/>
            </p:nvSpPr>
            <p:spPr>
              <a:xfrm>
                <a:off x="6726240" y="266760"/>
                <a:ext cx="3240" cy="16700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15280" y="266760"/>
                <a:ext cx="1440" cy="187956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408720" y="266760"/>
                <a:ext cx="1440" cy="187956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21480" y="266760"/>
                <a:ext cx="1440" cy="16682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6157440" y="266760"/>
                <a:ext cx="288360" cy="1881360"/>
                <a:chOff x="6157440" y="266760"/>
                <a:chExt cx="288360" cy="1881360"/>
              </a:xfrm>
            </p:grpSpPr>
            <p:sp>
              <p:nvSpPr>
                <p:cNvPr id="594" name=""/>
                <p:cNvSpPr/>
                <p:nvPr/>
              </p:nvSpPr>
              <p:spPr>
                <a:xfrm flipH="1">
                  <a:off x="6298920" y="266760"/>
                  <a:ext cx="4680" cy="187956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rot="5400000">
                  <a:off x="5361120" y="1063440"/>
                  <a:ext cx="18810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834240" y="895320"/>
                <a:ext cx="1440" cy="103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940440" y="1519200"/>
                <a:ext cx="1800" cy="4176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04700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6596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5976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47252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7008120" y="1725120"/>
                <a:ext cx="291960" cy="214560"/>
                <a:chOff x="7008120" y="1725120"/>
                <a:chExt cx="291960" cy="2145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7153200" y="17287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rot="5340000">
                  <a:off x="7049160" y="16880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" name=""/>
              <p:cNvSpPr/>
              <p:nvPr/>
            </p:nvSpPr>
            <p:spPr>
              <a:xfrm>
                <a:off x="779148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68492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9768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"/>
              <p:cNvGrpSpPr/>
              <p:nvPr/>
            </p:nvGrpSpPr>
            <p:grpSpPr>
              <a:xfrm>
                <a:off x="7437240" y="1728720"/>
                <a:ext cx="288360" cy="209880"/>
                <a:chOff x="7437240" y="1728720"/>
                <a:chExt cx="288360" cy="209880"/>
              </a:xfrm>
            </p:grpSpPr>
            <p:sp>
              <p:nvSpPr>
                <p:cNvPr id="609" name=""/>
                <p:cNvSpPr/>
                <p:nvPr/>
              </p:nvSpPr>
              <p:spPr>
                <a:xfrm flipH="1">
                  <a:off x="7578360" y="172872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rot="5400000">
                  <a:off x="7476480" y="168948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821700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11044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2320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7862400" y="1728720"/>
                <a:ext cx="288360" cy="209880"/>
                <a:chOff x="7862400" y="1728720"/>
                <a:chExt cx="288360" cy="209880"/>
              </a:xfrm>
            </p:grpSpPr>
            <p:sp>
              <p:nvSpPr>
                <p:cNvPr id="615" name=""/>
                <p:cNvSpPr/>
                <p:nvPr/>
              </p:nvSpPr>
              <p:spPr>
                <a:xfrm flipH="1">
                  <a:off x="8003880" y="172872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5400000">
                  <a:off x="7901640" y="168948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8640720" y="1728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534520" y="1728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8282880" y="1725120"/>
                <a:ext cx="291960" cy="214560"/>
                <a:chOff x="8282880" y="1725120"/>
                <a:chExt cx="291960" cy="21456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8427960" y="17287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rot="5340000">
                  <a:off x="8323920" y="16880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6303960" y="1101600"/>
                <a:ext cx="159228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00720" y="264960"/>
                <a:ext cx="42552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6303960" y="472680"/>
                <a:ext cx="1273320" cy="4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303960" y="684360"/>
                <a:ext cx="12747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303960" y="893880"/>
                <a:ext cx="15937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6303960" y="1307880"/>
                <a:ext cx="2550960" cy="46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03960" y="1519200"/>
                <a:ext cx="2550960" cy="180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303960" y="1728720"/>
                <a:ext cx="2336760" cy="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303960" y="1936800"/>
                <a:ext cx="233676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303960" y="2146320"/>
                <a:ext cx="211320" cy="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4044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4700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6596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5976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7252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" name=""/>
              <p:cNvGrpSpPr/>
              <p:nvPr/>
            </p:nvGrpSpPr>
            <p:grpSpPr>
              <a:xfrm>
                <a:off x="7008120" y="1307520"/>
                <a:ext cx="291960" cy="214560"/>
                <a:chOff x="7008120" y="1307520"/>
                <a:chExt cx="291960" cy="2145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7153200" y="13111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5340000">
                  <a:off x="7049160" y="12704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"/>
              <p:cNvSpPr/>
              <p:nvPr/>
            </p:nvSpPr>
            <p:spPr>
              <a:xfrm>
                <a:off x="779148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8492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89768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7437240" y="1311120"/>
                <a:ext cx="288360" cy="210240"/>
                <a:chOff x="7437240" y="1311120"/>
                <a:chExt cx="288360" cy="210240"/>
              </a:xfrm>
            </p:grpSpPr>
            <p:sp>
              <p:nvSpPr>
                <p:cNvPr id="644" name=""/>
                <p:cNvSpPr/>
                <p:nvPr/>
              </p:nvSpPr>
              <p:spPr>
                <a:xfrm flipH="1">
                  <a:off x="7578360" y="131112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rot="5400000">
                  <a:off x="7476480" y="127224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821700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11044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323200" y="13111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7862400" y="1311120"/>
                <a:ext cx="288360" cy="210240"/>
                <a:chOff x="7862400" y="1311120"/>
                <a:chExt cx="288360" cy="210240"/>
              </a:xfrm>
            </p:grpSpPr>
            <p:sp>
              <p:nvSpPr>
                <p:cNvPr id="650" name=""/>
                <p:cNvSpPr/>
                <p:nvPr/>
              </p:nvSpPr>
              <p:spPr>
                <a:xfrm flipH="1">
                  <a:off x="8003880" y="131112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5400000">
                  <a:off x="7901640" y="1272240"/>
                  <a:ext cx="2098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"/>
              <p:cNvSpPr/>
              <p:nvPr/>
            </p:nvSpPr>
            <p:spPr>
              <a:xfrm>
                <a:off x="864252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53596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748720" y="13111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8284680" y="1307520"/>
                <a:ext cx="291960" cy="214560"/>
                <a:chOff x="8284680" y="1307520"/>
                <a:chExt cx="291960" cy="2145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8429760" y="1311120"/>
                  <a:ext cx="144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rot="5340000">
                  <a:off x="8325720" y="12704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714880" y="1310040"/>
                <a:ext cx="288360" cy="211320"/>
                <a:chOff x="8714880" y="1310040"/>
                <a:chExt cx="288360" cy="2113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8858160" y="1311120"/>
                  <a:ext cx="1800" cy="2098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rot="5400000">
                  <a:off x="8753400" y="1271520"/>
                  <a:ext cx="2113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6937200" y="8953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47000" y="8953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65960" y="8953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259760" y="8953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472520" y="8953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7008120" y="891720"/>
                <a:ext cx="291960" cy="214560"/>
                <a:chOff x="7008120" y="891720"/>
                <a:chExt cx="291960" cy="2145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7153200" y="8953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rot="5340000">
                  <a:off x="7049160" y="8546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7791480" y="8953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84920" y="8953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897680" y="8953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7437240" y="895320"/>
                <a:ext cx="288360" cy="209880"/>
                <a:chOff x="7437240" y="895320"/>
                <a:chExt cx="288360" cy="209880"/>
              </a:xfrm>
            </p:grpSpPr>
            <p:sp>
              <p:nvSpPr>
                <p:cNvPr id="673" name=""/>
                <p:cNvSpPr/>
                <p:nvPr/>
              </p:nvSpPr>
              <p:spPr>
                <a:xfrm flipH="1">
                  <a:off x="7578360" y="895320"/>
                  <a:ext cx="468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rot="5400000">
                  <a:off x="7476480" y="85608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"/>
              <p:cNvSpPr/>
              <p:nvPr/>
            </p:nvSpPr>
            <p:spPr>
              <a:xfrm>
                <a:off x="6940440" y="477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47000" y="477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65960" y="477720"/>
                <a:ext cx="180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59760" y="477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472520" y="477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7008120" y="474120"/>
                <a:ext cx="291960" cy="214560"/>
                <a:chOff x="7008120" y="474120"/>
                <a:chExt cx="291960" cy="214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7153200" y="4777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340000">
                  <a:off x="7049160" y="4370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7432200" y="476640"/>
                <a:ext cx="288360" cy="209520"/>
                <a:chOff x="7432200" y="476640"/>
                <a:chExt cx="288360" cy="2095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575480" y="477720"/>
                  <a:ext cx="1800" cy="20808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5400000">
                  <a:off x="7471440" y="437040"/>
                  <a:ext cx="2095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"/>
              <p:cNvSpPr/>
              <p:nvPr/>
            </p:nvSpPr>
            <p:spPr>
              <a:xfrm>
                <a:off x="6829560" y="477720"/>
                <a:ext cx="1440" cy="2080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39B2-BCBD-407A-81B0-A1A0F210A7E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Partitioning a Documen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7680" y="1854360"/>
            <a:ext cx="6558120" cy="360756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cipeDocumentProvider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extend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FileDocumentProvider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otecte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up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Object element,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docum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f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(document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nstanceof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Extension3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Extension3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ext= 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Extension3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 docu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artitioner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Recipe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ext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Document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RECIPE_PARTITION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partition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partition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nnec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docum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Recipe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Predicate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[] rules=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ingleLineRu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#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ul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oke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RECIPE_COM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uleBasedPartitionScanner scanner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uleBasedPartitionScan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scann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PredicateRule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rul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FastPartition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scanner, 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CONTENT_TYPE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11B4-CB54-4975-9FC0-C7C991A8661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5749920" y="923760"/>
            <a:ext cx="2919240" cy="11750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s user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t discovery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ous degrees of smar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t proposal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’s d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8DB0-283F-4343-8C6B-47933B0CB6D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ent Assist: Processor computes proposal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14440" y="1739880"/>
            <a:ext cx="6839280" cy="130968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ContentAssista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ContentAssista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Sourc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sourceViewer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ntentAssistant assistant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ntentAssista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assistant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DocumentPartition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RECIPE_PARTITION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assistant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ContentAssistProcess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HippieProposalProcess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, 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RECIPE_COM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assista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61680" y="4395600"/>
            <a:ext cx="773748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implest proposal type: hippie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a prefix to a word in any open text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6920-6894-471C-98D4-B58AC2C252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Goal for Toda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52600" y="1554120"/>
            <a:ext cx="6127560" cy="44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D0E56-FA02-4AC0-A113-46E877AF62D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ent Assist: Hook an Ac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65180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n 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ister it with the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to be  called action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64280" y="4046400"/>
            <a:ext cx="7461000" cy="123768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Courier 10 Pitch"/>
                <a:ea typeface="Sans"/>
              </a:rPr>
              <a:t>protected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1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Actions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100" spc="-1" strike="noStrike">
                <a:solidFill>
                  <a:srgbClr val="808080"/>
                </a:solidFill>
                <a:latin typeface="Courier 10 Pitch"/>
                <a:ea typeface="Sans"/>
              </a:rPr>
              <a:t>super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100" spc="-1" strike="noStrike">
                <a:solidFill>
                  <a:srgbClr val="0d5e00"/>
                </a:solidFill>
                <a:latin typeface="Courier 10 Pitch"/>
                <a:ea typeface="Sans"/>
              </a:rPr>
              <a:t>createActions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100" spc="-1" strike="noStrike">
                <a:solidFill>
                  <a:srgbClr val="121f51"/>
                </a:solidFill>
                <a:latin typeface="Courier 10 Pitch"/>
                <a:ea typeface="Sans"/>
              </a:rPr>
              <a:t>IAction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 action= </a:t>
            </a:r>
            <a:r>
              <a:rPr b="0" lang="en-GB" sz="11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ContentAssistAction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(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action.</a:t>
            </a:r>
            <a:r>
              <a:rPr b="1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setActionDefinitionId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100" spc="-1" strike="noStrike">
                <a:solidFill>
                  <a:srgbClr val="121f51"/>
                </a:solidFill>
                <a:latin typeface="Courier 10 Pitch"/>
                <a:ea typeface="Sans"/>
              </a:rPr>
              <a:t>ITextEditorActionDefinitionIds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0" lang="en-GB" sz="1100" spc="-1" strike="noStrike">
                <a:solidFill>
                  <a:srgbClr val="600082"/>
                </a:solidFill>
                <a:latin typeface="Courier 10 Pitch"/>
                <a:ea typeface="Sans"/>
              </a:rPr>
              <a:t>CONTENT_ASSIST_PROPOSALS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0d5e00"/>
                </a:solidFill>
                <a:latin typeface="Courier 10 Pitch"/>
                <a:ea typeface="Sans"/>
              </a:rPr>
              <a:t>	</a:t>
            </a:r>
            <a:r>
              <a:rPr b="1" lang="en-GB" sz="1100" spc="-1" strike="noStrike">
                <a:solidFill>
                  <a:srgbClr val="0d5e00"/>
                </a:solidFill>
                <a:latin typeface="Courier 10 Pitch"/>
                <a:ea typeface="Sans"/>
              </a:rPr>
              <a:t>setAction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100" spc="-1" strike="noStrike">
                <a:solidFill>
                  <a:srgbClr val="2a00ff"/>
                </a:solidFill>
                <a:latin typeface="Courier 10 Pitch"/>
                <a:ea typeface="Sans"/>
              </a:rPr>
              <a:t>"ContentAssist"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, actio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8C68-99B9-4ED5-8F58-F660E2763A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Editor Action Bar Contributo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44400" y="1523520"/>
            <a:ext cx="81756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s the editor to tool bar, menu bar and 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d by all editors of a k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4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sicTextEditorActionContribu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nects basic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us lin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/copy/p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/replace, incremental 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4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xtEditorActionContribu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/remove task/book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otation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u entry to change the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63FB-D3A7-44E5-9F79-7BB1C08E3C6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ent Assist: Hook an Ac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43904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on Contrib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s for all editors of a k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7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Retarget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directs menu actions to the active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u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ol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952720" y="2860560"/>
            <a:ext cx="6043320" cy="343080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targetTextEditorAction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ntAss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cipeEditorActionContribu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ntAss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targetTextEditorAc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tring cmd= </a:t>
            </a:r>
            <a:r>
              <a:rPr b="0" lang="en-GB" sz="1100" spc="-1" strike="noStrike">
                <a:solidFill>
                  <a:srgbClr val="121f51"/>
                </a:solidFill>
                <a:latin typeface="Courier 10 Pitch"/>
                <a:ea typeface="Sans"/>
              </a:rPr>
              <a:t>ITextEditorActionDefinitionIds</a:t>
            </a:r>
            <a:r>
              <a:rPr b="0" lang="en-GB" sz="11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0" lang="en-GB" sz="1100" spc="-1" strike="noStrike">
                <a:solidFill>
                  <a:srgbClr val="600082"/>
                </a:solidFill>
                <a:latin typeface="Courier 10 Pitch"/>
                <a:ea typeface="Sans"/>
              </a:rPr>
              <a:t>CONTENT_ASSIST_PROPOSAL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ntAss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ActionDefinition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cm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@Over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ntributeToMenu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MenuManag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menu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MenuManag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editMenu= menu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findMenuUsingPath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M_EDI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editMenu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appendToGroup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MB_ADDI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ntAss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@Over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ActiveEdi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EditorPar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ar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IAction editorAction= 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getAc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art, </a:t>
            </a:r>
            <a:r>
              <a:rPr b="0" lang="en-GB" sz="1100" spc="-1" strike="noStrike">
                <a:solidFill>
                  <a:srgbClr val="2a00ff"/>
                </a:solidFill>
                <a:latin typeface="Courier 10 Pitch"/>
                <a:ea typeface="Sans"/>
              </a:rPr>
              <a:t>"ContentAssist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ntAss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Ac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editorAct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66C5-121D-45BB-ACD3-C6B422853CE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emplat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62040" y="1776240"/>
            <a:ext cx="743904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n via Content Ass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ed snippet for reoccurr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s a lightweight input mask (stencil) when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templates can be contributed by other 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may modify the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lkit exists, but needs glu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ton template store and context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erenc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452920" y="434880"/>
            <a:ext cx="3054600" cy="12258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5530680" y="5065560"/>
            <a:ext cx="289908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0519-FD08-4217-B91B-7740F502BD65}" type="slidenum">
              <a:t>23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emplates – the Easy Wa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4240" y="1530360"/>
            <a:ext cx="8661240" cy="431460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cipeCompletionProcessor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mplement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ContentAssistProcess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in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String 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CONTEXT_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preparation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; 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//$NON-NLS-1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ContextType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xtTy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ContextTy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CONTEXT_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Preparation Templates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Templ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Stir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//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Stir gently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CONTEXT_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Stir ${ingredient} gently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//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als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 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//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CompletionPropos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[]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mputeCompletionProposal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Text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viewer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offse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document= view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gion region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g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offset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Context context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DocumentTemplateContex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ContextTy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document, offset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Proposal proposal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emplatePropos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Templ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templateContext, region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ul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CompletionPropos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[] result= { templateProposal 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sul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DE1B-CBB1-4956-918A-8C0F5D3BFF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ent Assist - Templat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39640" y="1619280"/>
            <a:ext cx="1440000" cy="1979640"/>
            <a:chOff x="539640" y="1619280"/>
            <a:chExt cx="1440000" cy="1979640"/>
          </a:xfrm>
        </p:grpSpPr>
        <p:sp>
          <p:nvSpPr>
            <p:cNvPr id="711" name=""/>
            <p:cNvSpPr/>
            <p:nvPr/>
          </p:nvSpPr>
          <p:spPr>
            <a:xfrm>
              <a:off x="539640" y="1619280"/>
              <a:ext cx="1440000" cy="1979640"/>
            </a:xfrm>
            <a:custGeom>
              <a:avLst/>
              <a:gdLst>
                <a:gd name="textAreaLeft" fmla="*/ 360 w 1440000"/>
                <a:gd name="textAreaRight" fmla="*/ 1439640 w 1440000"/>
                <a:gd name="textAreaTop" fmla="*/ 360 h 1979640"/>
                <a:gd name="textAreaBottom" fmla="*/ 1979280 h 1979640"/>
              </a:gdLst>
              <a:ahLst/>
              <a:rect l="textAreaLeft" t="textAreaTop" r="textAreaRight" b="textAreaBottom"/>
              <a:pathLst>
                <a:path w="21600" h="29693">
                  <a:moveTo>
                    <a:pt x="23" y="0"/>
                  </a:moveTo>
                  <a:arcTo wR="23" hR="23" stAng="16200000" swAng="-5400000"/>
                  <a:lnTo>
                    <a:pt x="0" y="29670"/>
                  </a:lnTo>
                  <a:arcTo wR="23" hR="23" stAng="10800000" swAng="-5400000"/>
                  <a:lnTo>
                    <a:pt x="21577" y="29693"/>
                  </a:lnTo>
                  <a:arcTo wR="23" hR="23" stAng="5400000" swAng="-5400000"/>
                  <a:lnTo>
                    <a:pt x="21600" y="23"/>
                  </a:lnTo>
                  <a:arcTo wR="23" hR="23" stAng="0" swAng="-5400000"/>
                  <a:close/>
                </a:path>
              </a:pathLst>
            </a:cu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emplate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0720" y="1979640"/>
              <a:ext cx="108108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0720" y="2448000"/>
              <a:ext cx="108108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20" y="2916360"/>
              <a:ext cx="1081080" cy="360360"/>
            </a:xfrm>
            <a:prstGeom prst="roundRect">
              <a:avLst>
                <a:gd name="adj" fmla="val 44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7380360" y="900000"/>
            <a:ext cx="143964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00360" y="1619280"/>
            <a:ext cx="1440000" cy="197964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1979640"/>
              <a:gd name="textAreaBottom" fmla="*/ 1979280 h 1979640"/>
            </a:gdLst>
            <a:ahLst/>
            <a:rect l="textAreaLeft" t="textAreaTop" r="textAreaRight" b="textAreaBottom"/>
            <a:pathLst>
              <a:path w="21600" h="29693">
                <a:moveTo>
                  <a:pt x="23" y="0"/>
                </a:moveTo>
                <a:arcTo wR="23" hR="23" stAng="16200000" swAng="-5400000"/>
                <a:lnTo>
                  <a:pt x="0" y="29670"/>
                </a:lnTo>
                <a:arcTo wR="23" hR="23" stAng="10800000" swAng="-5400000"/>
                <a:lnTo>
                  <a:pt x="21577" y="29693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ext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resol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"/>
          <p:cNvCxnSpPr>
            <a:stCxn id="716" idx="3"/>
            <a:endCxn id="718" idx="1"/>
          </p:cNvCxnSpPr>
          <p:nvPr/>
        </p:nvCxnSpPr>
        <p:spPr>
          <a:xfrm>
            <a:off x="4140000" y="2609640"/>
            <a:ext cx="2340360" cy="9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4319640" y="1728720"/>
            <a:ext cx="2252520" cy="457200"/>
          </a:xfrm>
          <a:prstGeom prst="roundRect">
            <a:avLst>
              <a:gd name="adj" fmla="val 347"/>
            </a:avLst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Bake ${ingredient} 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${temp}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3348000"/>
            <a:ext cx="1451160" cy="471600"/>
          </a:xfrm>
          <a:prstGeom prst="roundRect">
            <a:avLst>
              <a:gd name="adj" fmla="val 333"/>
            </a:avLst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Bake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</a:rPr>
              <a:t>brea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 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</a:rPr>
              <a:t>250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"/>
          <p:cNvCxnSpPr>
            <a:stCxn id="715" idx="1"/>
          </p:cNvCxnSpPr>
          <p:nvPr/>
        </p:nvCxnSpPr>
        <p:spPr>
          <a:xfrm flipH="1">
            <a:off x="5310000" y="1530360"/>
            <a:ext cx="2070720" cy="1567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21" name=""/>
          <p:cNvSpPr/>
          <p:nvPr/>
        </p:nvSpPr>
        <p:spPr>
          <a:xfrm>
            <a:off x="360360" y="4319640"/>
            <a:ext cx="14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21" idx="0"/>
            <a:endCxn id="710" idx="2"/>
          </p:cNvCxnSpPr>
          <p:nvPr/>
        </p:nvCxnSpPr>
        <p:spPr>
          <a:xfrm flipV="1">
            <a:off x="1079640" y="3600000"/>
            <a:ext cx="181440" cy="720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23" name=""/>
          <p:cNvCxnSpPr>
            <a:stCxn id="721" idx="0"/>
            <a:endCxn id="716" idx="2"/>
          </p:cNvCxnSpPr>
          <p:nvPr/>
        </p:nvCxnSpPr>
        <p:spPr>
          <a:xfrm flipV="1">
            <a:off x="1079640" y="3600000"/>
            <a:ext cx="2340360" cy="72000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3728880" y="5056200"/>
            <a:ext cx="289908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701-F44E-4636-A196-54D4DF0A72D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1: A Text Editor in 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2: Ad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f2672"/>
                </a:solidFill>
                <a:latin typeface="Arial"/>
              </a:rPr>
              <a:t>Lesson 3: Create a text model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... and reconcil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Spell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F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9C22-E0F8-475B-8C55-D59211709C8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Reconcile as You Typ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 errors and update the model while 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o costly to be updated in the UI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nciler runs analysis in separate thread (one per edi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cked off after a typing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rupted when the user typ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chroniz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ault implementation: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MonoReconc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our own: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IReconciling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back its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otate the text model: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IAnnotation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9875-9289-4C3D-8216-43327B072AF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Annotation Model: Positional inform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61680" y="1775880"/>
            <a:ext cx="7651800" cy="386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 Model consists of </a:t>
            </a:r>
            <a:r>
              <a:rPr b="1" lang="en-GB" sz="2000" spc="-1" strike="noStrike">
                <a:solidFill>
                  <a:srgbClr val="000000"/>
                </a:solidFill>
                <a:latin typeface="Courier 10 Pitch"/>
              </a:rPr>
              <a:t>IDocu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Courier 10 Pitch"/>
              </a:rPr>
              <a:t>IAnnotation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tations are based on the position tracking in </a:t>
            </a:r>
            <a:r>
              <a:rPr b="1" lang="en-GB" sz="2000" spc="-1" strike="noStrike">
                <a:solidFill>
                  <a:srgbClr val="000000"/>
                </a:solidFill>
                <a:latin typeface="Courier 10 Pitch"/>
              </a:rPr>
              <a:t>I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notation is a piece of Information attached to a text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implement IAnnotationPresentation to provide an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2170080" y="4375080"/>
            <a:ext cx="3429000" cy="1490760"/>
            <a:chOff x="2170080" y="4375080"/>
            <a:chExt cx="3429000" cy="1490760"/>
          </a:xfrm>
        </p:grpSpPr>
        <p:sp>
          <p:nvSpPr>
            <p:cNvPr id="732" name=""/>
            <p:cNvSpPr/>
            <p:nvPr/>
          </p:nvSpPr>
          <p:spPr>
            <a:xfrm>
              <a:off x="2170080" y="4375080"/>
              <a:ext cx="1436760" cy="1490760"/>
            </a:xfrm>
            <a:custGeom>
              <a:avLst/>
              <a:gdLst>
                <a:gd name="textAreaLeft" fmla="*/ 360 w 1436760"/>
                <a:gd name="textAreaRight" fmla="*/ 1436400 w 1436760"/>
                <a:gd name="textAreaTop" fmla="*/ 360 h 1490760"/>
                <a:gd name="textAreaBottom" fmla="*/ 1490400 h 1490760"/>
              </a:gdLst>
              <a:ahLst/>
              <a:rect l="textAreaLeft" t="textAreaTop" r="textAreaRight" b="textAreaBottom"/>
              <a:pathLst>
                <a:path w="21600" h="22412">
                  <a:moveTo>
                    <a:pt x="27" y="0"/>
                  </a:moveTo>
                  <a:arcTo wR="27" hR="27" stAng="16200000" swAng="-5400000"/>
                  <a:lnTo>
                    <a:pt x="0" y="22385"/>
                  </a:lnTo>
                  <a:arcTo wR="27" hR="27" stAng="10800000" swAng="-5400000"/>
                  <a:lnTo>
                    <a:pt x="21573" y="22412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87720" y="4375080"/>
              <a:ext cx="1409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IAnnotation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46640" y="4375080"/>
              <a:ext cx="1247760" cy="1487520"/>
            </a:xfrm>
            <a:custGeom>
              <a:avLst/>
              <a:gdLst/>
              <a:ahLst/>
              <a:rect l="l" t="t" r="r" b="b"/>
              <a:pathLst>
                <a:path w="3467" h="4132">
                  <a:moveTo>
                    <a:pt x="0" y="0"/>
                  </a:moveTo>
                  <a:lnTo>
                    <a:pt x="0" y="2126"/>
                  </a:lnTo>
                  <a:lnTo>
                    <a:pt x="0" y="4131"/>
                  </a:lnTo>
                  <a:lnTo>
                    <a:pt x="3466" y="4131"/>
                  </a:lnTo>
                  <a:lnTo>
                    <a:pt x="3466" y="701"/>
                  </a:lnTo>
                  <a:lnTo>
                    <a:pt x="279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46640" y="4375080"/>
              <a:ext cx="124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IDocu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57880" y="4375080"/>
              <a:ext cx="241200" cy="252360"/>
            </a:xfrm>
            <a:custGeom>
              <a:avLst/>
              <a:gdLst/>
              <a:ahLst/>
              <a:rect l="l" t="t" r="r" b="b"/>
              <a:pathLst>
                <a:path w="670" h="702">
                  <a:moveTo>
                    <a:pt x="669" y="701"/>
                  </a:moveTo>
                  <a:lnTo>
                    <a:pt x="669" y="701"/>
                  </a:lnTo>
                  <a:lnTo>
                    <a:pt x="0" y="701"/>
                  </a:lnTo>
                  <a:lnTo>
                    <a:pt x="0" y="0"/>
                  </a:lnTo>
                  <a:lnTo>
                    <a:pt x="669" y="701"/>
                  </a:lnTo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2428920" y="4818240"/>
              <a:ext cx="814320" cy="217440"/>
              <a:chOff x="2428920" y="4818240"/>
              <a:chExt cx="814320" cy="21744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2428920" y="4818240"/>
                <a:ext cx="814320" cy="217440"/>
                <a:chOff x="2428920" y="4818240"/>
                <a:chExt cx="814320" cy="2174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428920" y="4818240"/>
                  <a:ext cx="814320" cy="191880"/>
                </a:xfrm>
                <a:prstGeom prst="roundRect">
                  <a:avLst>
                    <a:gd name="adj" fmla="val 83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430360" y="4820760"/>
                  <a:ext cx="811440" cy="21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18360" tIns="27360" anchor="ctr">
                  <a:sp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msmincho"/>
                    </a:rPr>
                    <a:t>Err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94120" y="4853160"/>
                <a:ext cx="152280" cy="128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2" name=""/>
            <p:cNvGrpSpPr/>
            <p:nvPr/>
          </p:nvGrpSpPr>
          <p:grpSpPr>
            <a:xfrm>
              <a:off x="2428920" y="5119560"/>
              <a:ext cx="814320" cy="217800"/>
              <a:chOff x="2428920" y="5119560"/>
              <a:chExt cx="814320" cy="21780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2428920" y="5119560"/>
                <a:ext cx="814320" cy="217800"/>
                <a:chOff x="2428920" y="5119560"/>
                <a:chExt cx="814320" cy="21780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2428920" y="5119560"/>
                  <a:ext cx="814320" cy="192240"/>
                </a:xfrm>
                <a:prstGeom prst="roundRect">
                  <a:avLst>
                    <a:gd name="adj" fmla="val 83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430360" y="5122440"/>
                  <a:ext cx="811440" cy="21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msmincho"/>
                    </a:rPr>
                    <a:t>Spell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13200" y="5173560"/>
                <a:ext cx="152280" cy="13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7" name=""/>
            <p:cNvSpPr/>
            <p:nvPr/>
          </p:nvSpPr>
          <p:spPr>
            <a:xfrm>
              <a:off x="4454640" y="5140440"/>
              <a:ext cx="88740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54640" y="5029200"/>
              <a:ext cx="88740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54640" y="4911840"/>
              <a:ext cx="88740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54640" y="5268960"/>
              <a:ext cx="43488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54640" y="5629320"/>
              <a:ext cx="88740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454640" y="5518080"/>
              <a:ext cx="887400" cy="180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54640" y="5400720"/>
              <a:ext cx="88740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454640" y="5757840"/>
              <a:ext cx="434880" cy="1440"/>
            </a:xfrm>
            <a:prstGeom prst="line">
              <a:avLst/>
            </a:prstGeom>
            <a:ln w="27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648320" y="4948200"/>
              <a:ext cx="380880" cy="173160"/>
            </a:xfrm>
            <a:prstGeom prst="roundRect">
              <a:avLst>
                <a:gd name="adj" fmla="val 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51200" y="4948200"/>
              <a:ext cx="3794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P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70440" y="5384880"/>
              <a:ext cx="380880" cy="172800"/>
            </a:xfrm>
            <a:prstGeom prst="roundRect">
              <a:avLst>
                <a:gd name="adj" fmla="val 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71880" y="5384880"/>
              <a:ext cx="3794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Pos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428920" y="5448240"/>
              <a:ext cx="826920" cy="212400"/>
              <a:chOff x="2428920" y="5448240"/>
              <a:chExt cx="826920" cy="21240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2428920" y="5448240"/>
                <a:ext cx="826920" cy="212400"/>
                <a:chOff x="2428920" y="5448240"/>
                <a:chExt cx="826920" cy="21240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2428920" y="5448240"/>
                  <a:ext cx="826920" cy="192240"/>
                </a:xfrm>
                <a:prstGeom prst="roundRect">
                  <a:avLst>
                    <a:gd name="adj" fmla="val 83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30360" y="5464080"/>
                  <a:ext cx="82404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000" anchor="ctr">
                  <a:spAutoFit/>
                </a:bodyPr>
                <a:p>
                  <a:pPr algn="ctr">
                    <a:lnSpc>
                      <a:spcPct val="93000"/>
                    </a:lnSpc>
                    <a:tabLst>
                      <a:tab algn="l" pos="0"/>
                      <a:tab algn="l" pos="35892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333080"/>
                      <a:tab algn="l" pos="1078236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  <a:ea typeface="msmincho"/>
                    </a:rPr>
                    <a:t>Spell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5800" y="5499000"/>
                <a:ext cx="154080" cy="128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4" name=""/>
            <p:cNvSpPr/>
            <p:nvPr/>
          </p:nvSpPr>
          <p:spPr>
            <a:xfrm>
              <a:off x="4513320" y="5172120"/>
              <a:ext cx="380880" cy="173160"/>
            </a:xfrm>
            <a:prstGeom prst="roundRect">
              <a:avLst>
                <a:gd name="adj" fmla="val 9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16560" y="5172120"/>
              <a:ext cx="3794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8360" bIns="183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msmincho"/>
                </a:rPr>
                <a:t>Pos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6" name=""/>
            <p:cNvCxnSpPr>
              <a:stCxn id="737" idx="3"/>
              <a:endCxn id="756" idx="1"/>
            </p:cNvCxnSpPr>
            <p:nvPr/>
          </p:nvCxnSpPr>
          <p:spPr>
            <a:xfrm>
              <a:off x="3241440" y="4927320"/>
              <a:ext cx="1410120" cy="11340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67" name=""/>
            <p:cNvCxnSpPr>
              <a:stCxn id="742" idx="3"/>
              <a:endCxn id="765" idx="1"/>
            </p:cNvCxnSpPr>
            <p:nvPr/>
          </p:nvCxnSpPr>
          <p:spPr>
            <a:xfrm>
              <a:off x="3242880" y="5229000"/>
              <a:ext cx="127548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768" name=""/>
            <p:cNvCxnSpPr>
              <a:stCxn id="759" idx="3"/>
              <a:endCxn id="758" idx="1"/>
            </p:cNvCxnSpPr>
            <p:nvPr/>
          </p:nvCxnSpPr>
          <p:spPr>
            <a:xfrm flipV="1">
              <a:off x="3255840" y="5476680"/>
              <a:ext cx="1618560" cy="8136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1A1E-04BD-4FB1-BEEF-8F9248327DE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Spell Check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a spelling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dictionary in ec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D contains a plug-in that contributes a spelling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the spelling engine in the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otation type for spelling problems is defined by the 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org.eclipse.ui.edi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lug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33840" y="4351320"/>
            <a:ext cx="6741000" cy="166320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cipeReconcileStrategy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mplement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ReconcilingStrategy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L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ollectSpellingProblem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SpellingService service= EditorsUI.</a:t>
            </a:r>
            <a:r>
              <a:rPr b="1" i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SpellingServic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pellingProblemCollector collector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pellingProblemCollec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rvice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heck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pellingContex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, collector,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Moni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L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roblems= collecto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Problem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roble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B42D-D0EF-470D-9F3D-E691EDA7354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080" y="91548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2f2672"/>
                </a:solidFill>
                <a:latin typeface="Arial"/>
              </a:rPr>
              <a:t>Lesson 1: A Text Editor in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Eclipse plug-ins re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No Java</a:t>
            </a:r>
            <a:r>
              <a:rPr b="1" lang="en-GB" sz="1800" spc="-1" strike="noStrike">
                <a:solidFill>
                  <a:srgbClr val="2f2672"/>
                </a:solidFill>
                <a:latin typeface="Arial"/>
                <a:ea typeface="Arial"/>
              </a:rPr>
              <a:t>™</a:t>
            </a: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Arial"/>
              </a:rPr>
              <a:t>Check out all the stuff we got for fre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2: Ad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yntax col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3: Create and reconcile a tex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ll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5704-318B-483D-A2EC-DADB1D32A9B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2672"/>
                </a:solidFill>
                <a:latin typeface="Courier 10 Pitch"/>
              </a:rPr>
              <a:t>SpellingReconcilingStrategy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0480" y="1612800"/>
            <a:ext cx="8119440" cy="413784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Annotation[]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fPrevious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Monospace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econci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L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problems 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ollectSpellingProblem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Map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annotations =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create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problem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323f70"/>
                </a:solidFill>
                <a:latin typeface="Courier 10 Pitch"/>
                <a:ea typeface="Monospace"/>
              </a:rPr>
              <a:t>IAnnotationMode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 model= 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fSourc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getAnnotationMode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model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replace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fPrevious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, annotation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Monospace"/>
              </a:rPr>
              <a:t>fPrevious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= annotations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keySe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toArray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Monospace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in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String 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SPELLING_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2a00ff"/>
                </a:solidFill>
                <a:latin typeface="Courier 10 Pitch"/>
                <a:ea typeface="Sans"/>
              </a:rPr>
              <a:t>"org.eclipse.ui.workbench.texteditor.spelling"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rivat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Map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Annotation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Lis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roblem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Map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annotations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HashMap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tera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it= problems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itera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 it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hasNex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SpellingProblem problem= (SpellingProblem) it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nex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Annotation annotation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Annota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SPELLING_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als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, problem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Messag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osition position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osi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roblem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Offse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, problem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getLength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+ 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annotations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u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annotation, posit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7f7f7f"/>
                </a:solidFill>
                <a:latin typeface="Courier 10 Pitch"/>
                <a:ea typeface="Sans"/>
              </a:rPr>
              <a:t>retur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annotation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D14B-F856-421D-AB69-461505196F2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Update Problem Annotations While Typing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rder 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pping temporary problems to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rs: persistable information tags generated by the bui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pping new problems to existing problem anno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ing your own annotation types is a good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A0F1-376E-4503-BF43-835541A498F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How to Add a Custom Annot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2080" y="1776240"/>
            <a:ext cx="8197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4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g.eclipse.ui.editors.annotation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tension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s a new annotatio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o map an annotation type to a marke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4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rg.eclipse.ui.editors.markerAnnotationSpecific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tension-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s where and how this annotation type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ines defaul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s whether the annotation type appears on the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eneral &gt; Editors &gt; Text Editors &gt; Annotati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eferenc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2453-2A0C-46A6-AE99-19398EAED0F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Adding Domain Model Based Featur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domai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s too long for us – use the provided recipe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e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utline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d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document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E457-39B2-4924-B951-C8C74502CD8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he Recipe Model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a simple parser for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kes too long for this tuto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org.recipeeditor.mod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lug-in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-create the recipe in the reconc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4683240" y="3286080"/>
            <a:ext cx="1935000" cy="2260800"/>
            <a:chOff x="4683240" y="3286080"/>
            <a:chExt cx="1935000" cy="2260800"/>
          </a:xfrm>
        </p:grpSpPr>
        <p:grpSp>
          <p:nvGrpSpPr>
            <p:cNvPr id="783" name=""/>
            <p:cNvGrpSpPr/>
            <p:nvPr/>
          </p:nvGrpSpPr>
          <p:grpSpPr>
            <a:xfrm>
              <a:off x="4683240" y="3286080"/>
              <a:ext cx="1935000" cy="2260800"/>
              <a:chOff x="4683240" y="3286080"/>
              <a:chExt cx="1935000" cy="2260800"/>
            </a:xfrm>
          </p:grpSpPr>
          <p:sp>
            <p:nvSpPr>
              <p:cNvPr id="784" name=""/>
              <p:cNvSpPr/>
              <p:nvPr/>
            </p:nvSpPr>
            <p:spPr>
              <a:xfrm>
                <a:off x="4683240" y="3286080"/>
                <a:ext cx="1933560" cy="2260800"/>
              </a:xfrm>
              <a:custGeom>
                <a:avLst/>
                <a:gdLst>
                  <a:gd name="textAreaLeft" fmla="*/ 360 w 1933560"/>
                  <a:gd name="textAreaRight" fmla="*/ 1933200 w 1933560"/>
                  <a:gd name="textAreaTop" fmla="*/ 360 h 2260800"/>
                  <a:gd name="textAreaBottom" fmla="*/ 2260440 h 2260800"/>
                </a:gdLst>
                <a:ahLst/>
                <a:rect l="textAreaLeft" t="textAreaTop" r="textAreaRight" b="textAreaBottom"/>
                <a:pathLst>
                  <a:path w="21600" h="25255">
                    <a:moveTo>
                      <a:pt x="22" y="0"/>
                    </a:moveTo>
                    <a:arcTo wR="22" hR="22" stAng="16200000" swAng="-5400000"/>
                    <a:lnTo>
                      <a:pt x="0" y="25233"/>
                    </a:lnTo>
                    <a:arcTo wR="22" hR="22" stAng="10800000" swAng="-5400000"/>
                    <a:lnTo>
                      <a:pt x="21578" y="25255"/>
                    </a:lnTo>
                    <a:arcTo wR="22" hR="22" stAng="5400000" swAng="-5400000"/>
                    <a:lnTo>
                      <a:pt x="21600" y="22"/>
                    </a:lnTo>
                    <a:arcTo wR="22" hR="22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684680" y="3286080"/>
                <a:ext cx="1933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ci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853160" y="3576600"/>
              <a:ext cx="1598400" cy="890640"/>
              <a:chOff x="4853160" y="3576600"/>
              <a:chExt cx="1598400" cy="890640"/>
            </a:xfrm>
          </p:grpSpPr>
          <p:sp>
            <p:nvSpPr>
              <p:cNvPr id="787" name=""/>
              <p:cNvSpPr/>
              <p:nvPr/>
            </p:nvSpPr>
            <p:spPr>
              <a:xfrm>
                <a:off x="4853160" y="3576600"/>
                <a:ext cx="1595160" cy="890640"/>
              </a:xfrm>
              <a:prstGeom prst="roundRect">
                <a:avLst>
                  <a:gd name="adj" fmla="val 176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856040" y="3576600"/>
                <a:ext cx="1595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IngredientsS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4859280" y="4581360"/>
              <a:ext cx="1592280" cy="841680"/>
              <a:chOff x="4859280" y="4581360"/>
              <a:chExt cx="1592280" cy="841680"/>
            </a:xfrm>
          </p:grpSpPr>
          <p:sp>
            <p:nvSpPr>
              <p:cNvPr id="790" name=""/>
              <p:cNvSpPr/>
              <p:nvPr/>
            </p:nvSpPr>
            <p:spPr>
              <a:xfrm>
                <a:off x="4859280" y="4581360"/>
                <a:ext cx="1589040" cy="841680"/>
              </a:xfrm>
              <a:prstGeom prst="roundRect">
                <a:avLst>
                  <a:gd name="adj" fmla="val 185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862520" y="4583160"/>
                <a:ext cx="1589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PreparationS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4976640" y="3849840"/>
              <a:ext cx="1351080" cy="261360"/>
              <a:chOff x="4976640" y="3849840"/>
              <a:chExt cx="1351080" cy="261360"/>
            </a:xfrm>
          </p:grpSpPr>
          <p:sp>
            <p:nvSpPr>
              <p:cNvPr id="793" name=""/>
              <p:cNvSpPr/>
              <p:nvPr/>
            </p:nvSpPr>
            <p:spPr>
              <a:xfrm>
                <a:off x="4976640" y="3849840"/>
                <a:ext cx="1351080" cy="24264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976640" y="3849840"/>
                <a:ext cx="1347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Ingredi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4976640" y="4157640"/>
              <a:ext cx="1344960" cy="262800"/>
              <a:chOff x="4976640" y="4157640"/>
              <a:chExt cx="1344960" cy="262800"/>
            </a:xfrm>
          </p:grpSpPr>
          <p:sp>
            <p:nvSpPr>
              <p:cNvPr id="796" name=""/>
              <p:cNvSpPr/>
              <p:nvPr/>
            </p:nvSpPr>
            <p:spPr>
              <a:xfrm>
                <a:off x="4976640" y="4157640"/>
                <a:ext cx="1344960" cy="24300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976640" y="4159080"/>
                <a:ext cx="13431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Ingredi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4976640" y="4832280"/>
              <a:ext cx="1362240" cy="261360"/>
              <a:chOff x="4976640" y="4832280"/>
              <a:chExt cx="1362240" cy="261360"/>
            </a:xfrm>
          </p:grpSpPr>
          <p:sp>
            <p:nvSpPr>
              <p:cNvPr id="799" name=""/>
              <p:cNvSpPr/>
              <p:nvPr/>
            </p:nvSpPr>
            <p:spPr>
              <a:xfrm>
                <a:off x="4976640" y="4832280"/>
                <a:ext cx="1362240" cy="24300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976640" y="4832280"/>
                <a:ext cx="13608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976640" y="5124600"/>
              <a:ext cx="1366920" cy="261360"/>
              <a:chOff x="4976640" y="5124600"/>
              <a:chExt cx="1366920" cy="261360"/>
            </a:xfrm>
          </p:grpSpPr>
          <p:sp>
            <p:nvSpPr>
              <p:cNvPr id="802" name=""/>
              <p:cNvSpPr/>
              <p:nvPr/>
            </p:nvSpPr>
            <p:spPr>
              <a:xfrm>
                <a:off x="4976640" y="5124600"/>
                <a:ext cx="1366920" cy="24264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976640" y="5124600"/>
                <a:ext cx="13654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4" name=""/>
          <p:cNvSpPr/>
          <p:nvPr/>
        </p:nvSpPr>
        <p:spPr>
          <a:xfrm>
            <a:off x="2774880" y="3922560"/>
            <a:ext cx="871560" cy="989280"/>
          </a:xfrm>
          <a:custGeom>
            <a:avLst/>
            <a:gdLst>
              <a:gd name="textAreaLeft" fmla="*/ 360 w 871560"/>
              <a:gd name="textAreaRight" fmla="*/ 871200 w 871560"/>
              <a:gd name="textAreaTop" fmla="*/ 360 h 989280"/>
              <a:gd name="textAreaBottom" fmla="*/ 988920 h 989280"/>
            </a:gdLst>
            <a:ahLst/>
            <a:rect l="textAreaLeft" t="textAreaTop" r="textAreaRight" b="textAreaBottom"/>
            <a:pathLst>
              <a:path w="21600" h="24516">
                <a:moveTo>
                  <a:pt x="39" y="0"/>
                </a:moveTo>
                <a:arcTo wR="39" hR="39" stAng="16200000" swAng="-5400000"/>
                <a:lnTo>
                  <a:pt x="0" y="24477"/>
                </a:lnTo>
                <a:arcTo wR="39" hR="39" stAng="10800000" swAng="-5400000"/>
                <a:lnTo>
                  <a:pt x="21561" y="24516"/>
                </a:lnTo>
                <a:arcTo wR="39" hR="39" stAng="5400000" swAng="-5400000"/>
                <a:lnTo>
                  <a:pt x="21600" y="39"/>
                </a:lnTo>
                <a:arcTo wR="39" hR="39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5" name=""/>
          <p:cNvCxnSpPr>
            <a:stCxn id="804" idx="3"/>
            <a:endCxn id="782" idx="1"/>
          </p:cNvCxnSpPr>
          <p:nvPr/>
        </p:nvCxnSpPr>
        <p:spPr>
          <a:xfrm>
            <a:off x="3646440" y="4416480"/>
            <a:ext cx="103752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1121-8906-4925-B7F4-4569551CFD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Reconciling the Model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81520" y="1908000"/>
            <a:ext cx="4915440" cy="95616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conci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Reg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partition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cipe recipe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cipePars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ars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Documen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Edito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Recip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recipe);</a:t>
            </a:r>
            <a:r>
              <a:rPr b="0" lang="en-GB" sz="1200" spc="-1" strike="noStrike">
                <a:solidFill>
                  <a:srgbClr val="008000"/>
                </a:solidFill>
                <a:latin typeface="Courier 10 Pitch"/>
                <a:ea typeface="Sans"/>
              </a:rPr>
              <a:t> // upda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heckSpelling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79BD-1A6D-4C8E-B3FC-FAF38E929A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Adding an Outlin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line view is defined by Eclipse (the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line content is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ntentOutline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or provides its outline via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Editor.getAdap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knows its outline page and update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input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selection change, if back linking is supported and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line is normally updated upon mode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 outline page is built using JFace or SW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6CF5-AD0B-49A2-ACED-ED1EC57B08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reating an Outline Pag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128240" y="1677960"/>
            <a:ext cx="7106760" cy="360756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cipeOutlinePage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extends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ContentOutlinePag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Contro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Composite par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sup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createContro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ar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reeViewer viewer= 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getTre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121f51"/>
                </a:solidFill>
                <a:latin typeface="Courier 10 Pitch"/>
                <a:ea typeface="Sans"/>
              </a:rPr>
              <a:t>ITreeContentProvid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contentProvider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ecipeOutlineContentProvid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view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ContentProvid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contentProvi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updateRecipeMode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fina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Recipe recip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unInSWTThrea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viewer,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unnab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ru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TreeViewer viewer= 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getTre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if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(viewer !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ul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view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setInpu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(recip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4BD6-8DAF-4911-93B1-05C905D85FE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Projection Support (1/3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03400" y="1775880"/>
            <a:ext cx="7348320" cy="15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creates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jectionView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ead of a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ource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around framework oversigh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installs the projection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84840" y="3386160"/>
            <a:ext cx="6835680" cy="1486440"/>
          </a:xfrm>
          <a:prstGeom prst="rect">
            <a:avLst/>
          </a:prstGeom>
          <a:solidFill>
            <a:srgbClr val="9966cc">
              <a:alpha val="1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public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void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createPartContro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Composite par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sup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createPartContro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ar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rojectionViewer projectionViewer= (ProjectionViewer) </a:t>
            </a:r>
            <a:r>
              <a:rPr b="1" lang="en-GB" sz="1200" spc="-1" strike="noStrike">
                <a:solidFill>
                  <a:srgbClr val="0d5e00"/>
                </a:solidFill>
                <a:latin typeface="Courier 10 Pitch"/>
                <a:ea typeface="Sans"/>
              </a:rPr>
              <a:t>getSourceViewer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ProjectionSuppor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= </a:t>
            </a:r>
            <a:r>
              <a:rPr b="0" lang="en-GB" sz="1200" spc="-1" strike="noStrike">
                <a:solidFill>
                  <a:srgbClr val="808080"/>
                </a:solidFill>
                <a:latin typeface="Courier 10 Pitch"/>
                <a:ea typeface="Sans"/>
              </a:rPr>
              <a:t>new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rojectionSuppor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rojectionViewer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c0"/>
                </a:solidFill>
                <a:latin typeface="Courier 10 Pitch"/>
                <a:ea typeface="Sans"/>
              </a:rPr>
              <a:t>fProjectionSupport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install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projectionViewer.</a:t>
            </a:r>
            <a:r>
              <a:rPr b="1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doOperation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(ProjectionViewer.</a:t>
            </a:r>
            <a:r>
              <a:rPr b="0" lang="en-GB" sz="1200" spc="-1" strike="noStrike">
                <a:solidFill>
                  <a:srgbClr val="600082"/>
                </a:solidFill>
                <a:latin typeface="Courier 10 Pitch"/>
                <a:ea typeface="Sans"/>
              </a:rPr>
              <a:t>TOGGLE</a:t>
            </a:r>
            <a:r>
              <a:rPr b="0" lang="en-GB" sz="1200" spc="-1" strike="noStrike">
                <a:solidFill>
                  <a:srgbClr val="000000"/>
                </a:solidFill>
                <a:latin typeface="Courier 10 Pitch"/>
                <a:ea typeface="Sans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179280"/>
                <a:tab algn="l" pos="358920"/>
                <a:tab algn="l" pos="539640"/>
                <a:tab algn="l" pos="719280"/>
                <a:tab algn="l" pos="8985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10 Pitch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36600" y="5205240"/>
            <a:ext cx="73486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provides access to the projection annot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ward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  <a:ea typeface="Arial"/>
              </a:rPr>
              <a:t>ITextEditor.getAdapter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o the proje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1E10-F3E3-44CB-BED4-EEF2AD7148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Projection Support (2/3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folding structure updater updates the projec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r is installed on a text editor or projection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 the structure updater in the reconc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lding structure upd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utes the folding structure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s the projection annotations in the projection annot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8D0A-50BD-4050-BA10-FF880B4190B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60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Platform vs. Extensible Applic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5720" y="2166840"/>
            <a:ext cx="1457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73240" y="2124000"/>
            <a:ext cx="2629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sibl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29040" y="3052800"/>
            <a:ext cx="2168640" cy="17654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29040" y="2629080"/>
            <a:ext cx="638280" cy="35208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75320" y="2619360"/>
            <a:ext cx="638280" cy="35244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1600" y="2610000"/>
            <a:ext cx="676080" cy="35244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040" y="2610000"/>
            <a:ext cx="1069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63840" y="5456160"/>
            <a:ext cx="5830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lipse is a platform with a small runtime kernel, which is an OSGi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221000"/>
            <a:ext cx="2139840" cy="5972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620800"/>
            <a:ext cx="637920" cy="154152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82680" y="3578400"/>
            <a:ext cx="638280" cy="57456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2680" y="2614680"/>
            <a:ext cx="638280" cy="893520"/>
          </a:xfrm>
          <a:prstGeom prst="rect">
            <a:avLst/>
          </a:prstGeom>
          <a:solidFill>
            <a:srgbClr val="3950f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19240" y="2610000"/>
            <a:ext cx="657360" cy="1542960"/>
            <a:chOff x="2919240" y="2610000"/>
            <a:chExt cx="657360" cy="1542960"/>
          </a:xfrm>
        </p:grpSpPr>
        <p:sp>
          <p:nvSpPr>
            <p:cNvPr id="112" name=""/>
            <p:cNvSpPr/>
            <p:nvPr/>
          </p:nvSpPr>
          <p:spPr>
            <a:xfrm>
              <a:off x="2919240" y="3100320"/>
              <a:ext cx="657360" cy="1052640"/>
            </a:xfrm>
            <a:prstGeom prst="rect">
              <a:avLst/>
            </a:prstGeom>
            <a:solidFill>
              <a:srgbClr val="3950f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19240" y="2610000"/>
              <a:ext cx="319320" cy="457200"/>
            </a:xfrm>
            <a:prstGeom prst="rect">
              <a:avLst/>
            </a:prstGeom>
            <a:solidFill>
              <a:srgbClr val="3950f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9320" y="2612880"/>
              <a:ext cx="287280" cy="446400"/>
            </a:xfrm>
            <a:prstGeom prst="rect">
              <a:avLst/>
            </a:prstGeom>
            <a:solidFill>
              <a:srgbClr val="3950f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007720" y="3114720"/>
            <a:ext cx="1003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Projection Support (3/3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798480" y="1663560"/>
            <a:ext cx="8128080" cy="3506760"/>
            <a:chOff x="798480" y="1663560"/>
            <a:chExt cx="8128080" cy="3506760"/>
          </a:xfrm>
        </p:grpSpPr>
        <p:sp>
          <p:nvSpPr>
            <p:cNvPr id="820" name=""/>
            <p:cNvSpPr/>
            <p:nvPr/>
          </p:nvSpPr>
          <p:spPr>
            <a:xfrm>
              <a:off x="2013840" y="2730600"/>
              <a:ext cx="682920" cy="264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008440" y="3639960"/>
              <a:ext cx="887040" cy="433800"/>
            </a:xfrm>
            <a:prstGeom prst="roundRect">
              <a:avLst>
                <a:gd name="adj" fmla="val 39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re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nfig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798480" y="2654280"/>
              <a:ext cx="1219320" cy="1523880"/>
              <a:chOff x="798480" y="2654280"/>
              <a:chExt cx="1219320" cy="1523880"/>
            </a:xfrm>
          </p:grpSpPr>
          <p:sp>
            <p:nvSpPr>
              <p:cNvPr id="823" name=""/>
              <p:cNvSpPr/>
              <p:nvPr/>
            </p:nvSpPr>
            <p:spPr>
              <a:xfrm>
                <a:off x="798480" y="2654280"/>
                <a:ext cx="1219320" cy="1523880"/>
              </a:xfrm>
              <a:custGeom>
                <a:avLst/>
                <a:gdLst>
                  <a:gd name="textAreaLeft" fmla="*/ 360 w 1219320"/>
                  <a:gd name="textAreaRight" fmla="*/ 1218960 w 121932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6994">
                    <a:moveTo>
                      <a:pt x="28" y="0"/>
                    </a:moveTo>
                    <a:arcTo wR="28" hR="28" stAng="16200000" swAng="-5400000"/>
                    <a:lnTo>
                      <a:pt x="0" y="26966"/>
                    </a:lnTo>
                    <a:arcTo wR="28" hR="28" stAng="10800000" swAng="-5400000"/>
                    <a:lnTo>
                      <a:pt x="21572" y="26994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98480" y="2654280"/>
                <a:ext cx="1219320" cy="1523880"/>
              </a:xfrm>
              <a:custGeom>
                <a:avLst/>
                <a:gdLst>
                  <a:gd name="textAreaLeft" fmla="*/ 360 w 1219320"/>
                  <a:gd name="textAreaRight" fmla="*/ 1218960 w 121932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6994">
                    <a:moveTo>
                      <a:pt x="28" y="0"/>
                    </a:moveTo>
                    <a:arcTo wR="28" hR="28" stAng="16200000" swAng="-5400000"/>
                    <a:lnTo>
                      <a:pt x="0" y="26966"/>
                    </a:lnTo>
                    <a:arcTo wR="28" hR="28" stAng="10800000" swAng="-5400000"/>
                    <a:lnTo>
                      <a:pt x="21572" y="26994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cipeEdi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5308920" y="3271680"/>
              <a:ext cx="1540800" cy="264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odifyAnnotations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17800" y="387504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17800" y="2960640"/>
              <a:ext cx="914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26200" y="318924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2932200" y="1663560"/>
              <a:ext cx="1322280" cy="1524240"/>
              <a:chOff x="2932200" y="1663560"/>
              <a:chExt cx="1322280" cy="1524240"/>
            </a:xfrm>
          </p:grpSpPr>
          <p:sp>
            <p:nvSpPr>
              <p:cNvPr id="830" name=""/>
              <p:cNvSpPr/>
              <p:nvPr/>
            </p:nvSpPr>
            <p:spPr>
              <a:xfrm>
                <a:off x="2932200" y="1663560"/>
                <a:ext cx="1322280" cy="1524240"/>
              </a:xfrm>
              <a:custGeom>
                <a:avLst/>
                <a:gdLst>
                  <a:gd name="textAreaLeft" fmla="*/ 360 w 1322280"/>
                  <a:gd name="textAreaRight" fmla="*/ 1321920 w 1322280"/>
                  <a:gd name="textAreaTop" fmla="*/ 360 h 1524240"/>
                  <a:gd name="textAreaBottom" fmla="*/ 1523880 h 1524240"/>
                </a:gdLst>
                <a:ahLst/>
                <a:rect l="textAreaLeft" t="textAreaTop" r="textAreaRight" b="textAreaBottom"/>
                <a:pathLst>
                  <a:path w="21600" h="24898">
                    <a:moveTo>
                      <a:pt x="28" y="0"/>
                    </a:moveTo>
                    <a:arcTo wR="28" hR="28" stAng="16200000" swAng="-5400000"/>
                    <a:lnTo>
                      <a:pt x="0" y="24870"/>
                    </a:lnTo>
                    <a:arcTo wR="28" hR="28" stAng="10800000" swAng="-5400000"/>
                    <a:lnTo>
                      <a:pt x="21572" y="24898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932200" y="1663560"/>
                <a:ext cx="1322280" cy="1524240"/>
              </a:xfrm>
              <a:custGeom>
                <a:avLst/>
                <a:gdLst>
                  <a:gd name="textAreaLeft" fmla="*/ 360 w 1322280"/>
                  <a:gd name="textAreaRight" fmla="*/ 1321920 w 1322280"/>
                  <a:gd name="textAreaTop" fmla="*/ 360 h 1524240"/>
                  <a:gd name="textAreaBottom" fmla="*/ 1523880 h 1524240"/>
                </a:gdLst>
                <a:ahLst/>
                <a:rect l="textAreaLeft" t="textAreaTop" r="textAreaRight" b="textAreaBottom"/>
                <a:pathLst>
                  <a:path w="21600" h="24898">
                    <a:moveTo>
                      <a:pt x="28" y="0"/>
                    </a:moveTo>
                    <a:arcTo wR="28" hR="28" stAng="16200000" swAng="-5400000"/>
                    <a:lnTo>
                      <a:pt x="0" y="24870"/>
                    </a:lnTo>
                    <a:arcTo wR="28" hR="28" stAng="10800000" swAng="-5400000"/>
                    <a:lnTo>
                      <a:pt x="21572" y="24898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ProjectionView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2932200" y="3646440"/>
              <a:ext cx="1218960" cy="1523880"/>
              <a:chOff x="2932200" y="3646440"/>
              <a:chExt cx="1218960" cy="1523880"/>
            </a:xfrm>
          </p:grpSpPr>
          <p:sp>
            <p:nvSpPr>
              <p:cNvPr id="833" name=""/>
              <p:cNvSpPr/>
              <p:nvPr/>
            </p:nvSpPr>
            <p:spPr>
              <a:xfrm>
                <a:off x="2932200" y="3646440"/>
                <a:ext cx="1218960" cy="1523880"/>
              </a:xfrm>
              <a:custGeom>
                <a:avLst/>
                <a:gdLst>
                  <a:gd name="textAreaLeft" fmla="*/ 360 w 1218960"/>
                  <a:gd name="textAreaRight" fmla="*/ 1218600 w 121896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7002">
                    <a:moveTo>
                      <a:pt x="28" y="0"/>
                    </a:moveTo>
                    <a:arcTo wR="28" hR="28" stAng="16200000" swAng="-5400000"/>
                    <a:lnTo>
                      <a:pt x="0" y="26974"/>
                    </a:lnTo>
                    <a:arcTo wR="28" hR="28" stAng="10800000" swAng="-5400000"/>
                    <a:lnTo>
                      <a:pt x="21572" y="27002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32200" y="3646440"/>
                <a:ext cx="1218960" cy="1523880"/>
              </a:xfrm>
              <a:custGeom>
                <a:avLst/>
                <a:gdLst>
                  <a:gd name="textAreaLeft" fmla="*/ 360 w 1218960"/>
                  <a:gd name="textAreaRight" fmla="*/ 1218600 w 121896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7002">
                    <a:moveTo>
                      <a:pt x="28" y="0"/>
                    </a:moveTo>
                    <a:arcTo wR="28" hR="28" stAng="16200000" swAng="-5400000"/>
                    <a:lnTo>
                      <a:pt x="0" y="26974"/>
                    </a:lnTo>
                    <a:arcTo wR="28" hR="28" stAng="10800000" swAng="-5400000"/>
                    <a:lnTo>
                      <a:pt x="21572" y="27002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Proj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uppor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4716360" y="1663560"/>
              <a:ext cx="1324080" cy="1524240"/>
              <a:chOff x="4716360" y="1663560"/>
              <a:chExt cx="1324080" cy="1524240"/>
            </a:xfrm>
          </p:grpSpPr>
          <p:sp>
            <p:nvSpPr>
              <p:cNvPr id="836" name=""/>
              <p:cNvSpPr/>
              <p:nvPr/>
            </p:nvSpPr>
            <p:spPr>
              <a:xfrm>
                <a:off x="4716360" y="1663560"/>
                <a:ext cx="1324080" cy="1524240"/>
              </a:xfrm>
              <a:custGeom>
                <a:avLst/>
                <a:gdLst>
                  <a:gd name="textAreaLeft" fmla="*/ 360 w 1324080"/>
                  <a:gd name="textAreaRight" fmla="*/ 1323720 w 1324080"/>
                  <a:gd name="textAreaTop" fmla="*/ 360 h 1524240"/>
                  <a:gd name="textAreaBottom" fmla="*/ 1523880 h 1524240"/>
                </a:gdLst>
                <a:ahLst/>
                <a:rect l="textAreaLeft" t="textAreaTop" r="textAreaRight" b="textAreaBottom"/>
                <a:pathLst>
                  <a:path w="21600" h="24864">
                    <a:moveTo>
                      <a:pt x="28" y="0"/>
                    </a:moveTo>
                    <a:arcTo wR="28" hR="28" stAng="16200000" swAng="-5400000"/>
                    <a:lnTo>
                      <a:pt x="0" y="24836"/>
                    </a:lnTo>
                    <a:arcTo wR="28" hR="28" stAng="10800000" swAng="-5400000"/>
                    <a:lnTo>
                      <a:pt x="21572" y="24864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716360" y="1663560"/>
                <a:ext cx="1324080" cy="1524240"/>
              </a:xfrm>
              <a:custGeom>
                <a:avLst/>
                <a:gdLst>
                  <a:gd name="textAreaLeft" fmla="*/ 360 w 1324080"/>
                  <a:gd name="textAreaRight" fmla="*/ 1323720 w 1324080"/>
                  <a:gd name="textAreaTop" fmla="*/ 360 h 1524240"/>
                  <a:gd name="textAreaBottom" fmla="*/ 1523880 h 1524240"/>
                </a:gdLst>
                <a:ahLst/>
                <a:rect l="textAreaLeft" t="textAreaTop" r="textAreaRight" b="textAreaBottom"/>
                <a:pathLst>
                  <a:path w="21600" h="24864">
                    <a:moveTo>
                      <a:pt x="28" y="0"/>
                    </a:moveTo>
                    <a:arcTo wR="28" hR="28" stAng="16200000" swAng="-5400000"/>
                    <a:lnTo>
                      <a:pt x="0" y="24836"/>
                    </a:lnTo>
                    <a:arcTo wR="28" hR="28" stAng="10800000" swAng="-5400000"/>
                    <a:lnTo>
                      <a:pt x="21572" y="24864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Projec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Annotation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4716360" y="3646440"/>
              <a:ext cx="1359000" cy="1523880"/>
              <a:chOff x="4716360" y="3646440"/>
              <a:chExt cx="1359000" cy="1523880"/>
            </a:xfrm>
          </p:grpSpPr>
          <p:sp>
            <p:nvSpPr>
              <p:cNvPr id="839" name=""/>
              <p:cNvSpPr/>
              <p:nvPr/>
            </p:nvSpPr>
            <p:spPr>
              <a:xfrm>
                <a:off x="4716360" y="3646440"/>
                <a:ext cx="1359000" cy="1523880"/>
              </a:xfrm>
              <a:custGeom>
                <a:avLst/>
                <a:gdLst>
                  <a:gd name="textAreaLeft" fmla="*/ 360 w 1359000"/>
                  <a:gd name="textAreaRight" fmla="*/ 1358640 w 135900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4220">
                    <a:moveTo>
                      <a:pt x="28" y="0"/>
                    </a:moveTo>
                    <a:arcTo wR="28" hR="28" stAng="16200000" swAng="-5400000"/>
                    <a:lnTo>
                      <a:pt x="0" y="24192"/>
                    </a:lnTo>
                    <a:arcTo wR="28" hR="28" stAng="10800000" swAng="-5400000"/>
                    <a:lnTo>
                      <a:pt x="21572" y="24220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716360" y="3646440"/>
                <a:ext cx="1359000" cy="1523880"/>
              </a:xfrm>
              <a:custGeom>
                <a:avLst/>
                <a:gdLst>
                  <a:gd name="textAreaLeft" fmla="*/ 360 w 1359000"/>
                  <a:gd name="textAreaRight" fmla="*/ 1358640 w 135900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4220">
                    <a:moveTo>
                      <a:pt x="28" y="0"/>
                    </a:moveTo>
                    <a:arcTo wR="28" hR="28" stAng="16200000" swAng="-5400000"/>
                    <a:lnTo>
                      <a:pt x="0" y="24192"/>
                    </a:lnTo>
                    <a:arcTo wR="28" hR="28" stAng="10800000" swAng="-5400000"/>
                    <a:lnTo>
                      <a:pt x="21572" y="24220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cipeFol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tructureProvi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7459560" y="3646440"/>
              <a:ext cx="1467000" cy="1523880"/>
              <a:chOff x="7459560" y="3646440"/>
              <a:chExt cx="1467000" cy="1523880"/>
            </a:xfrm>
          </p:grpSpPr>
          <p:sp>
            <p:nvSpPr>
              <p:cNvPr id="842" name=""/>
              <p:cNvSpPr/>
              <p:nvPr/>
            </p:nvSpPr>
            <p:spPr>
              <a:xfrm>
                <a:off x="7459560" y="3646440"/>
                <a:ext cx="1467000" cy="1523880"/>
              </a:xfrm>
              <a:custGeom>
                <a:avLst/>
                <a:gdLst>
                  <a:gd name="textAreaLeft" fmla="*/ 360 w 1467000"/>
                  <a:gd name="textAreaRight" fmla="*/ 1466640 w 146700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2437">
                    <a:moveTo>
                      <a:pt x="28" y="0"/>
                    </a:moveTo>
                    <a:arcTo wR="28" hR="28" stAng="16200000" swAng="-5400000"/>
                    <a:lnTo>
                      <a:pt x="0" y="22409"/>
                    </a:lnTo>
                    <a:arcTo wR="28" hR="28" stAng="10800000" swAng="-5400000"/>
                    <a:lnTo>
                      <a:pt x="21572" y="22437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459560" y="3646440"/>
                <a:ext cx="1467000" cy="1523880"/>
              </a:xfrm>
              <a:custGeom>
                <a:avLst/>
                <a:gdLst>
                  <a:gd name="textAreaLeft" fmla="*/ 360 w 1467000"/>
                  <a:gd name="textAreaRight" fmla="*/ 1466640 w 1467000"/>
                  <a:gd name="textAreaTop" fmla="*/ 360 h 1523880"/>
                  <a:gd name="textAreaBottom" fmla="*/ 1523520 h 1523880"/>
                </a:gdLst>
                <a:ahLst/>
                <a:rect l="textAreaLeft" t="textAreaTop" r="textAreaRight" b="textAreaBottom"/>
                <a:pathLst>
                  <a:path w="21600" h="22437">
                    <a:moveTo>
                      <a:pt x="28" y="0"/>
                    </a:moveTo>
                    <a:arcTo wR="28" hR="28" stAng="16200000" swAng="-5400000"/>
                    <a:lnTo>
                      <a:pt x="0" y="22409"/>
                    </a:lnTo>
                    <a:arcTo wR="28" hR="28" stAng="10800000" swAng="-5400000"/>
                    <a:lnTo>
                      <a:pt x="21572" y="22437"/>
                    </a:lnTo>
                    <a:arcTo wR="28" hR="28" stAng="5400000" swAng="-5400000"/>
                    <a:lnTo>
                      <a:pt x="21600" y="28"/>
                    </a:lnTo>
                    <a:arcTo wR="28" hR="28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RecipeReconcil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tabLst>
                    <a:tab algn="l" pos="0"/>
                    <a:tab algn="l" pos="3589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Strateg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4256280" y="2197080"/>
              <a:ext cx="428400" cy="264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9160" y="242568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18640" y="4132440"/>
              <a:ext cx="1153080" cy="43452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pdateFol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Regions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75360" y="4378320"/>
              <a:ext cx="1384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35560" y="3274920"/>
              <a:ext cx="768240" cy="2642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uppor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541680" y="3191040"/>
              <a:ext cx="1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230E-D35F-49A2-98F9-B7217642828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Thank You – Question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61680" y="4495680"/>
            <a:ext cx="773748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gal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4E41-84BB-4F64-9F95-AB38ED45300B}" type="slidenum">
              <a:t>41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360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Eclipse Plug-in Architectur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28480"/>
            <a:ext cx="60962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ug-in – set of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est unit of Eclipse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example: HTML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ll example: action that creates zi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nsion point 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med entity for collecting con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extension point for workbench preference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tension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con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specific HTML editor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lnSpc>
                <a:spcPct val="93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1360" y="3019320"/>
            <a:ext cx="1523880" cy="7621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27840" y="4314960"/>
            <a:ext cx="1849320" cy="8809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232760" y="4009680"/>
            <a:ext cx="190440" cy="269640"/>
            <a:chOff x="7232760" y="4009680"/>
            <a:chExt cx="190440" cy="269640"/>
          </a:xfrm>
        </p:grpSpPr>
        <p:sp>
          <p:nvSpPr>
            <p:cNvPr id="121" name=""/>
            <p:cNvSpPr/>
            <p:nvPr/>
          </p:nvSpPr>
          <p:spPr>
            <a:xfrm flipV="1" rot="10800000">
              <a:off x="7348320" y="4190040"/>
              <a:ext cx="428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0800000">
              <a:off x="7270560" y="4190040"/>
              <a:ext cx="4428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7232760" y="4009680"/>
              <a:ext cx="190440" cy="190440"/>
            </a:xfrm>
            <a:prstGeom prst="flowChartDelay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5400000">
            <a:off x="8243640" y="4297320"/>
            <a:ext cx="15228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252920" y="4297320"/>
            <a:ext cx="15228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0120" y="4632480"/>
            <a:ext cx="152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786440" y="3002040"/>
            <a:ext cx="15228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75560" y="1724040"/>
            <a:ext cx="1523880" cy="7621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97520" y="1820880"/>
            <a:ext cx="152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lug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81160" y="1706400"/>
            <a:ext cx="15264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8548560" y="3001680"/>
            <a:ext cx="152280" cy="19080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223120" y="4009680"/>
            <a:ext cx="190800" cy="269640"/>
            <a:chOff x="8223120" y="4009680"/>
            <a:chExt cx="190800" cy="269640"/>
          </a:xfrm>
        </p:grpSpPr>
        <p:sp>
          <p:nvSpPr>
            <p:cNvPr id="133" name=""/>
            <p:cNvSpPr/>
            <p:nvPr/>
          </p:nvSpPr>
          <p:spPr>
            <a:xfrm flipV="1" rot="10800000">
              <a:off x="8338680" y="4190040"/>
              <a:ext cx="428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10800000">
              <a:off x="8261280" y="4190040"/>
              <a:ext cx="446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8223120" y="4009320"/>
              <a:ext cx="190440" cy="190800"/>
            </a:xfrm>
            <a:prstGeom prst="flowChartDelay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765920" y="2714400"/>
            <a:ext cx="190800" cy="269280"/>
            <a:chOff x="7765920" y="2714400"/>
            <a:chExt cx="190800" cy="269280"/>
          </a:xfrm>
        </p:grpSpPr>
        <p:sp>
          <p:nvSpPr>
            <p:cNvPr id="137" name=""/>
            <p:cNvSpPr/>
            <p:nvPr/>
          </p:nvSpPr>
          <p:spPr>
            <a:xfrm flipV="1" rot="10800000">
              <a:off x="7881480" y="2894400"/>
              <a:ext cx="428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0800000">
              <a:off x="7804080" y="2894400"/>
              <a:ext cx="446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765920" y="2714040"/>
              <a:ext cx="190440" cy="190800"/>
            </a:xfrm>
            <a:prstGeom prst="flowChartDelay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108920" y="2397240"/>
            <a:ext cx="225360" cy="1612800"/>
          </a:xfrm>
          <a:custGeom>
            <a:avLst/>
            <a:gdLst/>
            <a:ahLst/>
            <a:rect l="l" t="t" r="r" b="b"/>
            <a:pathLst>
              <a:path w="142" h="1016">
                <a:moveTo>
                  <a:pt x="78" y="0"/>
                </a:moveTo>
                <a:cubicBezTo>
                  <a:pt x="66" y="58"/>
                  <a:pt x="0" y="229"/>
                  <a:pt x="6" y="352"/>
                </a:cubicBezTo>
                <a:cubicBezTo>
                  <a:pt x="12" y="475"/>
                  <a:pt x="91" y="625"/>
                  <a:pt x="114" y="736"/>
                </a:cubicBezTo>
                <a:cubicBezTo>
                  <a:pt x="137" y="847"/>
                  <a:pt x="136" y="958"/>
                  <a:pt x="142" y="10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65920" y="2397240"/>
            <a:ext cx="95400" cy="317520"/>
          </a:xfrm>
          <a:custGeom>
            <a:avLst/>
            <a:gdLst/>
            <a:ahLst/>
            <a:rect l="l" t="t" r="r" b="b"/>
            <a:pathLst>
              <a:path w="60" h="200">
                <a:moveTo>
                  <a:pt x="0" y="0"/>
                </a:moveTo>
                <a:cubicBezTo>
                  <a:pt x="7" y="10"/>
                  <a:pt x="29" y="44"/>
                  <a:pt x="38" y="64"/>
                </a:cubicBezTo>
                <a:cubicBezTo>
                  <a:pt x="47" y="84"/>
                  <a:pt x="48" y="97"/>
                  <a:pt x="52" y="120"/>
                </a:cubicBezTo>
                <a:cubicBezTo>
                  <a:pt x="56" y="143"/>
                  <a:pt x="58" y="183"/>
                  <a:pt x="60" y="20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94760" y="3724200"/>
            <a:ext cx="279360" cy="279360"/>
          </a:xfrm>
          <a:custGeom>
            <a:avLst/>
            <a:gdLst/>
            <a:ahLst/>
            <a:rect l="l" t="t" r="r" b="b"/>
            <a:pathLst>
              <a:path w="176" h="176">
                <a:moveTo>
                  <a:pt x="176" y="0"/>
                </a:moveTo>
                <a:cubicBezTo>
                  <a:pt x="172" y="16"/>
                  <a:pt x="176" y="78"/>
                  <a:pt x="151" y="98"/>
                </a:cubicBezTo>
                <a:cubicBezTo>
                  <a:pt x="126" y="118"/>
                  <a:pt x="46" y="109"/>
                  <a:pt x="23" y="122"/>
                </a:cubicBezTo>
                <a:cubicBezTo>
                  <a:pt x="0" y="135"/>
                  <a:pt x="17" y="165"/>
                  <a:pt x="15" y="1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2197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37400" y="219708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464680" y="35100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7520" y="5484960"/>
            <a:ext cx="16588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sion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154640" y="5845320"/>
            <a:ext cx="15228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34120" y="5578560"/>
            <a:ext cx="18900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755840" y="4294080"/>
            <a:ext cx="152640" cy="190440"/>
          </a:xfrm>
          <a:prstGeom prst="flowChartDelay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736040" y="4016160"/>
            <a:ext cx="190440" cy="269280"/>
            <a:chOff x="7736040" y="4016160"/>
            <a:chExt cx="190440" cy="269280"/>
          </a:xfrm>
        </p:grpSpPr>
        <p:sp>
          <p:nvSpPr>
            <p:cNvPr id="151" name=""/>
            <p:cNvSpPr/>
            <p:nvPr/>
          </p:nvSpPr>
          <p:spPr>
            <a:xfrm flipV="1" rot="10800000">
              <a:off x="7851600" y="4196160"/>
              <a:ext cx="4320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0800000">
              <a:off x="7773840" y="4196160"/>
              <a:ext cx="44640" cy="88920"/>
            </a:xfrm>
            <a:prstGeom prst="rect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7736040" y="4016160"/>
              <a:ext cx="190440" cy="190440"/>
            </a:xfrm>
            <a:prstGeom prst="flowChartDelay">
              <a:avLst/>
            </a:prstGeom>
            <a:solidFill>
              <a:srgbClr val="ff6666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812000" y="3701880"/>
            <a:ext cx="19080" cy="298800"/>
          </a:xfrm>
          <a:custGeom>
            <a:avLst/>
            <a:gdLst/>
            <a:ahLst/>
            <a:rect l="l" t="t" r="r" b="b"/>
            <a:pathLst>
              <a:path w="12" h="188">
                <a:moveTo>
                  <a:pt x="0" y="0"/>
                </a:moveTo>
                <a:cubicBezTo>
                  <a:pt x="1" y="11"/>
                  <a:pt x="3" y="44"/>
                  <a:pt x="4" y="64"/>
                </a:cubicBezTo>
                <a:cubicBezTo>
                  <a:pt x="5" y="84"/>
                  <a:pt x="7" y="99"/>
                  <a:pt x="8" y="120"/>
                </a:cubicBezTo>
                <a:cubicBezTo>
                  <a:pt x="9" y="141"/>
                  <a:pt x="11" y="174"/>
                  <a:pt x="12" y="18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1400" y="3497400"/>
            <a:ext cx="228600" cy="228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tribute a Text Editor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760" y="1775880"/>
            <a:ext cx="736128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sion point: </a:t>
            </a:r>
            <a:r>
              <a:rPr b="0" lang="en-GB" sz="2000" spc="-1" strike="noStrike">
                <a:solidFill>
                  <a:srgbClr val="000000"/>
                </a:solidFill>
                <a:latin typeface="Courier 10 Pitch"/>
              </a:rPr>
              <a:t>org.eclipse.ui.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ibute an editor by re-using existing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s some searching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t the dependencie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org.eclipse.jface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org.eclipse.ui.workbench.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10 Pitch"/>
              </a:rPr>
              <a:t>org.eclipse.ui.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ault text editor class: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provide an i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nect the menu and tool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ault implementation:  </a:t>
            </a:r>
            <a:r>
              <a:rPr b="1" lang="en-GB" sz="1800" spc="-1" strike="noStrike">
                <a:solidFill>
                  <a:srgbClr val="000000"/>
                </a:solidFill>
                <a:latin typeface="Courier 10 Pitch"/>
              </a:rPr>
              <a:t>TextEditorActionContrib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D7F6-442B-4534-AB22-2CB69746CC59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1564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1: A Text Editor in 1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Arial"/>
              </a:rPr>
              <a:t>Lesson 2: Add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Choose an editor super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3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Create a SourceViewer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Syntax col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Content as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80"/>
                </a:solidFill>
                <a:latin typeface="Arial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3: Create and reconcile a tex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6AEA-B81D-4917-97FC-972F92CDCC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onfiguration Area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super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or action bar contrib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viewer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 model: part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53A2-5308-4F77-A48F-AE9BB49732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2672"/>
                </a:solidFill>
                <a:latin typeface="Arial"/>
              </a:rPr>
              <a:t>Create Our Own Editor Clas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73612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15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 editor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stract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d/Replace, URL hyperlink navigatio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Courier New"/>
              </a:rPr>
              <a:t>Status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f2672"/>
                </a:solidFill>
                <a:latin typeface="Arial"/>
              </a:rPr>
              <a:t>Show status inside the editor area (unrelated to status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stractDecorated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lers, line numbers, quick diff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for General &gt; Editors &gt; Text Editors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284040">
              <a:lnSpc>
                <a:spcPct val="94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f2672"/>
                </a:solidFill>
                <a:latin typeface="Courier New"/>
              </a:rPr>
              <a:t>Text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0240"/>
                <a:tab algn="l" pos="2744640"/>
                <a:tab algn="l" pos="3659040"/>
                <a:tab algn="l" pos="4573440"/>
                <a:tab algn="l" pos="5487840"/>
                <a:tab algn="l" pos="6402240"/>
                <a:tab algn="l" pos="7316640"/>
                <a:tab algn="l" pos="8231040"/>
                <a:tab algn="l" pos="9145440"/>
                <a:tab algn="l" pos="1005984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2f2672"/>
                </a:solidFill>
                <a:latin typeface="Arial"/>
              </a:rPr>
              <a:t>the default Eclipse text 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16520" y="100080"/>
            <a:ext cx="4154400" cy="134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E1EF-4221-4AB5-B771-E51DD4238B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