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248-AF8B-4041-B4A0-2FA50A14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4D4-6121-42C8-8F77-5DBC9A84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064-0EA0-4FD8-AED1-73780FD9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A32-7D30-493D-A259-52EBCE96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E8A-13FB-4A27-A3CA-EF2CA330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9FD-8080-4AAC-9AC3-0F8784D9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E02-8465-4EEE-B5AE-EA5EB38C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821-B6BC-4839-A5BD-7BC5F429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889-F08E-4BCD-83D8-ED44F5E2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993-D3C4-4240-BF52-2A2B72D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933-5C36-4BD2-B9F2-A4257E4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A2C-F4E8-4648-8CE8-F61BE878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1CE-0F78-438D-90D9-C47B8C481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n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/ enhancing Eclipse run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/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access to function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onfiguration of Eclips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and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that we give guidance for using the new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arallel for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clipse develop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items which may affect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ctivation – end of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plugins – end of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of others – end of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: regain memory spac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latform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Plugins: add/remove plug-ins without rest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th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benefits of a servi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benefits of alternate run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runtim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s are on the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s are discovered on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ther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s are resolved on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the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s are activated when a class is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eactivation, some early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static to dynamic plug-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12680" y="2057400"/>
            <a:ext cx="5311800" cy="3886200"/>
            <a:chOff x="1012680" y="2057400"/>
            <a:chExt cx="5311800" cy="3886200"/>
          </a:xfrm>
        </p:grpSpPr>
        <p:sp>
          <p:nvSpPr>
            <p:cNvPr id="51" name=""/>
            <p:cNvSpPr/>
            <p:nvPr/>
          </p:nvSpPr>
          <p:spPr>
            <a:xfrm>
              <a:off x="1012680" y="2187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6520" y="2057400"/>
              <a:ext cx="129528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al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81280" y="2057400"/>
              <a:ext cx="160020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figu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33920" y="2819520"/>
              <a:ext cx="129528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ab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5562720"/>
              <a:ext cx="129528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9520" y="4648320"/>
              <a:ext cx="129528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3200" y="3733920"/>
              <a:ext cx="137160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ol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7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4280" y="3733920"/>
              <a:ext cx="160020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resol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3000" y="2263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1800" y="225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505320" y="3200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720" y="32004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778920" y="2057400"/>
            <a:ext cx="3699720" cy="3505320"/>
            <a:chOff x="3778920" y="2057400"/>
            <a:chExt cx="3699720" cy="3505320"/>
          </a:xfrm>
        </p:grpSpPr>
        <p:sp>
          <p:nvSpPr>
            <p:cNvPr id="67" name=""/>
            <p:cNvSpPr/>
            <p:nvPr/>
          </p:nvSpPr>
          <p:spPr>
            <a:xfrm>
              <a:off x="6183360" y="2057400"/>
              <a:ext cx="1295280" cy="380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ab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92640" y="22525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5960" y="394020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97360" y="50292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919600">
              <a:off x="3952800" y="2727360"/>
              <a:ext cx="3219480" cy="2089080"/>
            </a:xfrm>
            <a:custGeom>
              <a:avLst/>
              <a:gdLst/>
              <a:ahLst/>
              <a:rect l="l" t="t" r="r" b="b"/>
              <a:pathLst>
                <a:path w="1776" h="1632">
                  <a:moveTo>
                    <a:pt x="0" y="1440"/>
                  </a:moveTo>
                  <a:cubicBezTo>
                    <a:pt x="404" y="1536"/>
                    <a:pt x="808" y="1632"/>
                    <a:pt x="1104" y="1392"/>
                  </a:cubicBezTo>
                  <a:cubicBezTo>
                    <a:pt x="1400" y="1152"/>
                    <a:pt x="1588" y="576"/>
                    <a:pt x="177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c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use cases and curr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ication mechanism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s / types collection for G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pattern / mechanism for clean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ctivation trig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ablement / disab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registry resolution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ication mechanism / API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oint re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ment / disablement trig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e Run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Gi, Avalon, JM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/learn from th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doption vs. pill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into other groups as appl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with dynamic plug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programm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existing servic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rein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3:28:10Z</dcterms:created>
  <dc:creator>prapicault</dc:creator>
  <dc:description/>
  <dc:language>en-US</dc:language>
  <cp:lastModifiedBy>JMcAffer</cp:lastModifiedBy>
  <dcterms:modified xsi:type="dcterms:W3CDTF">2003-04-08T14:42:17Z</dcterms:modified>
  <cp:revision>19</cp:revision>
  <dc:subject/>
  <dc:title>Equinox</dc:title>
</cp:coreProperties>
</file>